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34.jpeg" ContentType="image/jpe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7DADB6A-67C0-4EAD-8185-B2E97F4AF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F687F95-35CF-4E56-BB57-13EFD3247279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687920"/>
            <a:ext cx="54388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6D96A92-72D9-4752-AC3C-044A2D56F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7FB51F0-9B5C-4552-8BF9-698428A7D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300DC7-F81E-419A-AA0D-02DDE24B39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0D2D34E-6CEA-40E0-8AFC-D78C7B549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4D5FB6E-1B64-4040-AC45-A67A40AFF4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3D0E858-2E74-4907-8D18-D1724D16E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3875BE9-B064-4831-A4F1-9F8EE8202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DD9E315-3CE7-44AA-BBAE-41FC77CEE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D185D32-B2B7-4930-A3D5-BF413C6604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9EB2C6-91DA-44CC-B6DE-433AEE225F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6E4B-FEAD-420D-AB6A-4A5947C903C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D1404A2-569A-467E-8FDB-B62F450B0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CA97376-75BA-495A-BB10-3D743C42AD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1B8993E-3CAE-49A7-8E34-EDA358DD4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F29425B-32B1-4DC9-ACB5-2F2A30A4B9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8A6516D-F429-44FF-94F5-70743C016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Schlussfolgerungsrelation ist gleichzusetzen mit der Semant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leitung: bei endlich vielen Sätzen kann man die Schlussfolgerungsrelation explizit an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endlich vielen nicht; dann muss sie anders definiert werden. FALSCHE ARGUMENTAT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400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952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8848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400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952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92AA-F411-4752-A5BC-313438021A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4013-8EC1-41C4-88F8-8E7A3770AC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BEA1-9D9C-41F2-8F24-6F333B2D7A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CE5B-3F06-4EEB-AFD9-0BBC372BB8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5424-D8B2-4103-ACCD-5B63BC44B1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82A7-7915-4884-A5F0-21F9EF94F6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2C2C-36C6-436A-B073-4A85006B84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0C4A-C972-4785-91CE-A4F500C01C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CF97-0AF6-435B-BCD2-30D8D85CF0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B669-93F6-4BAB-8DD3-B4668437E6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9834-A94C-4B8F-A5B4-A0E361DE1B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5400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19520" y="1790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8848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5400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19520" y="423864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F9ED-7560-4DDC-82CC-E7A0CC6B33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240" y="4238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8848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240" y="179064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88480" y="423864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93520" y="3535200"/>
            <a:ext cx="7358040" cy="795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27000"/>
          </a:bodyPr>
          <a:p>
            <a:pPr marL="925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520" indent="-925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92520" indent="-925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92520" indent="-925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92520" indent="-925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93520" y="1152000"/>
            <a:ext cx="735804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4062240" y="0"/>
            <a:ext cx="1019520" cy="868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5081760" y="0"/>
            <a:ext cx="4062240" cy="866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1440" y="1440"/>
            <a:ext cx="4073400" cy="865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8772480" y="5383080"/>
            <a:ext cx="320760" cy="14209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223920" y="630360"/>
            <a:ext cx="868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www.semantic-web-grundlagen.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88480" y="17906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-76320" y="1295280"/>
            <a:ext cx="1206720" cy="355680"/>
          </a:xfrm>
          <a:prstGeom prst="rect">
            <a:avLst/>
          </a:prstGeom>
          <a:ln w="0">
            <a:noFill/>
          </a:ln>
        </p:spPr>
      </p:pic>
      <p:grpSp>
        <p:nvGrpSpPr>
          <p:cNvPr id="46" name="Gruppierung 17"/>
          <p:cNvGrpSpPr/>
          <p:nvPr/>
        </p:nvGrpSpPr>
        <p:grpSpPr>
          <a:xfrm>
            <a:off x="-12600" y="-63360"/>
            <a:ext cx="9156600" cy="1358640"/>
            <a:chOff x="-12600" y="-63360"/>
            <a:chExt cx="9156600" cy="1358640"/>
          </a:xfrm>
        </p:grpSpPr>
        <p:sp>
          <p:nvSpPr>
            <p:cNvPr id="47" name="Rectangle 3"/>
            <p:cNvSpPr/>
            <p:nvPr/>
          </p:nvSpPr>
          <p:spPr>
            <a:xfrm>
              <a:off x="-12600" y="1249560"/>
              <a:ext cx="9156600" cy="45720"/>
            </a:xfrm>
            <a:prstGeom prst="rect">
              <a:avLst/>
            </a:prstGeom>
            <a:gradFill rotWithShape="0">
              <a:gsLst>
                <a:gs pos="0">
                  <a:srgbClr val="fcfefe"/>
                </a:gs>
                <a:gs pos="100000">
                  <a:srgbClr val="de332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3"/>
            <a:stretch/>
          </p:blipFill>
          <p:spPr>
            <a:xfrm>
              <a:off x="-2520" y="377280"/>
              <a:ext cx="1118520" cy="8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"/>
            <p:cNvPicPr/>
            <p:nvPr/>
          </p:nvPicPr>
          <p:blipFill>
            <a:blip r:embed="rId4"/>
            <a:srcRect l="0" t="0" r="0" b="89741"/>
            <a:stretch/>
          </p:blipFill>
          <p:spPr>
            <a:xfrm>
              <a:off x="-2520" y="-63360"/>
              <a:ext cx="1118520" cy="44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3"/>
          <p:cNvSpPr>
            <a:spLocks noGrp="1"/>
          </p:cNvSpPr>
          <p:nvPr>
            <p:ph type="sldNum" idx="1"/>
          </p:nvPr>
        </p:nvSpPr>
        <p:spPr>
          <a:xfrm>
            <a:off x="12674160" y="93978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AED5-65AD-49D7-A06A-25F16126C8C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1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penguins"/>
          <p:cNvPicPr/>
          <p:nvPr/>
        </p:nvPicPr>
        <p:blipFill>
          <a:blip r:embed="rId1"/>
          <a:stretch/>
        </p:blipFill>
        <p:spPr>
          <a:xfrm>
            <a:off x="1600200" y="660240"/>
            <a:ext cx="5486400" cy="553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C6CC-1AE8-482D-ACB8-EBC49E8D9658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yntax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040" y="15998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(von 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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ammenstellung, 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atz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schließt sich über die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 „richtiger“ Satz? D.h. wie wird die Menge der Sätze einer Logik defin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von „Erzeugungsregeln“ zur Definition (Konstruktion) von wohlgeformten Sätzen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539640" y="4549680"/>
            <a:ext cx="24465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1403280" y="469440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84360" y="527040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1692360" y="58467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1908000" y="52704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826920" y="591804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167280" y="4786200"/>
            <a:ext cx="37954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tax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Wen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 sind, dann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1908000" y="52704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1692360" y="58467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67280" y="41911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elem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7164360" y="548640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9"/>
          <p:cNvSpPr/>
          <p:nvPr/>
        </p:nvSpPr>
        <p:spPr>
          <a:xfrm>
            <a:off x="6300720" y="5229360"/>
            <a:ext cx="300240" cy="360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 flipH="1">
            <a:off x="5867280" y="5516640"/>
            <a:ext cx="433440" cy="61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3918960" y="6207120"/>
            <a:ext cx="29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nstrukto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unk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4DE3-4AEE-498C-8D24-C47D6C795E17}" type="slidenum">
              <a:t>10</a:t>
            </a:fld>
          </a:p>
        </p:txBody>
      </p:sp>
    </p:spTree>
  </p:cSld>
  <p:transition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0.57864 0.03681 E">
                                      <p:cBhvr>
                                        <p:cTn id="228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68107 -0.04745 E">
                                      <p:cBhvr>
                                        <p:cTn id="230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382 0.08703 -0.20764 0.17407 -0.31806 0.17407 C -0.42865 0.17407 -0.54635 0.08703 -0.66389 0 E">
                                      <p:cBhvr>
                                        <p:cTn id="244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Ausdrucksstärke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666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de-off: Logiken mit vielen Ausdrucksmitteln (Konstruktoren/Junktoren)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fortabler in der Verwendung (verschiedene und komplexe Sachverhalte sind einfach auszudrücken), 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er (meta)mathematisch zu handhaben (Beweisen von Eigenschaften der Logik umständlich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r Ausweg: Einschränkung der Sätze auf Teilmenge, die für jeden Satz der Logik einen logisch äquivalenten Vertreter enthält (vgl. Normalformen, minimale Junktorenmengen…) und Definition der anderen Sätze/Junktoren als „syntactic sugar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Logik über dieses Maß hinaus eingeschränkt, erhält man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ursprünglichen Logik mit geringer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sstär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014F-3276-42CF-B189-8C5FB45D90BE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4264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7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195" name="Oval 19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3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20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2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5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7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8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9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0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36"/>
          <p:cNvGrpSpPr/>
          <p:nvPr/>
        </p:nvGrpSpPr>
        <p:grpSpPr>
          <a:xfrm>
            <a:off x="4932360" y="2205000"/>
            <a:ext cx="3672000" cy="4032360"/>
            <a:chOff x="4932360" y="2205000"/>
            <a:chExt cx="3672000" cy="4032360"/>
          </a:xfrm>
        </p:grpSpPr>
        <p:sp>
          <p:nvSpPr>
            <p:cNvPr id="208" name="Oval 6"/>
            <p:cNvSpPr/>
            <p:nvPr/>
          </p:nvSpPr>
          <p:spPr>
            <a:xfrm>
              <a:off x="4932360" y="2205000"/>
              <a:ext cx="367200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7"/>
            <p:cNvSpPr/>
            <p:nvPr/>
          </p:nvSpPr>
          <p:spPr>
            <a:xfrm>
              <a:off x="5724360" y="5157720"/>
              <a:ext cx="93672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8"/>
            <p:cNvSpPr/>
            <p:nvPr/>
          </p:nvSpPr>
          <p:spPr>
            <a:xfrm>
              <a:off x="7380360" y="371808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ro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6084720" y="3141720"/>
              <a:ext cx="1081080" cy="5047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>
              <a:off x="6229440" y="2492280"/>
              <a:ext cx="93636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1"/>
            <p:cNvSpPr/>
            <p:nvPr/>
          </p:nvSpPr>
          <p:spPr>
            <a:xfrm>
              <a:off x="5365800" y="4365720"/>
              <a:ext cx="144144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hell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2"/>
            <p:cNvSpPr/>
            <p:nvPr/>
          </p:nvSpPr>
          <p:spPr>
            <a:xfrm>
              <a:off x="7667640" y="450864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el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3"/>
            <p:cNvSpPr/>
            <p:nvPr/>
          </p:nvSpPr>
          <p:spPr>
            <a:xfrm>
              <a:off x="5724360" y="3718080"/>
              <a:ext cx="165600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-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4"/>
            <p:cNvSpPr/>
            <p:nvPr/>
          </p:nvSpPr>
          <p:spPr>
            <a:xfrm>
              <a:off x="6805440" y="5300640"/>
              <a:ext cx="115128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ifti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3"/>
            <p:cNvSpPr/>
            <p:nvPr/>
          </p:nvSpPr>
          <p:spPr>
            <a:xfrm>
              <a:off x="7382520" y="2276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Sätz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35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4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40"/>
          <p:cNvGrpSpPr/>
          <p:nvPr/>
        </p:nvGrpSpPr>
        <p:grpSpPr>
          <a:xfrm>
            <a:off x="3779640" y="2781360"/>
            <a:ext cx="2305080" cy="952200"/>
            <a:chOff x="3779640" y="2781360"/>
            <a:chExt cx="2305080" cy="952200"/>
          </a:xfrm>
        </p:grpSpPr>
        <p:grpSp>
          <p:nvGrpSpPr>
            <p:cNvPr id="221" name="Group 38"/>
            <p:cNvGrpSpPr/>
            <p:nvPr/>
          </p:nvGrpSpPr>
          <p:grpSpPr>
            <a:xfrm>
              <a:off x="3924360" y="3070080"/>
              <a:ext cx="2160360" cy="663480"/>
              <a:chOff x="3924360" y="3070080"/>
              <a:chExt cx="2160360" cy="663480"/>
            </a:xfrm>
          </p:grpSpPr>
          <p:sp>
            <p:nvSpPr>
              <p:cNvPr id="222" name="AutoShape 15"/>
              <p:cNvSpPr/>
              <p:nvPr/>
            </p:nvSpPr>
            <p:spPr>
              <a:xfrm>
                <a:off x="3924360" y="3070080"/>
                <a:ext cx="2160360" cy="648000"/>
              </a:xfrm>
              <a:prstGeom prst="rightArrow">
                <a:avLst>
                  <a:gd name="adj1" fmla="val 50000"/>
                  <a:gd name="adj2" fmla="val 8334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7"/>
              <p:cNvSpPr/>
              <p:nvPr/>
            </p:nvSpPr>
            <p:spPr>
              <a:xfrm>
                <a:off x="4612680" y="32130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39"/>
            <p:cNvSpPr/>
            <p:nvPr/>
          </p:nvSpPr>
          <p:spPr>
            <a:xfrm>
              <a:off x="3779640" y="278136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000" spc="-1" strike="noStrike">
                  <a:solidFill>
                    <a:srgbClr val="006600"/>
                  </a:solidFill>
                  <a:latin typeface="Arial"/>
                </a:rPr>
                <a:t>Modell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v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B76C-F2A6-4886-AC40-F6B885AAAAEC}" type="slidenum">
              <a:t>12</a:t>
            </a:fld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30284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utolog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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239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30"/>
          <p:cNvGrpSpPr/>
          <p:nvPr/>
        </p:nvGrpSpPr>
        <p:grpSpPr>
          <a:xfrm>
            <a:off x="2993400" y="2314800"/>
            <a:ext cx="3442320" cy="1381320"/>
            <a:chOff x="2993400" y="2314800"/>
            <a:chExt cx="3442320" cy="1381320"/>
          </a:xfrm>
        </p:grpSpPr>
        <p:grpSp>
          <p:nvGrpSpPr>
            <p:cNvPr id="254" name="Group 31"/>
            <p:cNvGrpSpPr/>
            <p:nvPr/>
          </p:nvGrpSpPr>
          <p:grpSpPr>
            <a:xfrm>
              <a:off x="3267360" y="2314800"/>
              <a:ext cx="3168360" cy="1381320"/>
              <a:chOff x="3267360" y="2314800"/>
              <a:chExt cx="3168360" cy="1381320"/>
            </a:xfrm>
          </p:grpSpPr>
          <p:sp>
            <p:nvSpPr>
              <p:cNvPr id="255" name="AutoShape 32"/>
              <p:cNvSpPr/>
              <p:nvPr/>
            </p:nvSpPr>
            <p:spPr>
              <a:xfrm rot="20757600">
                <a:off x="3299400" y="2681640"/>
                <a:ext cx="3103920" cy="647640"/>
              </a:xfrm>
              <a:prstGeom prst="rightArrow">
                <a:avLst>
                  <a:gd name="adj1" fmla="val 50000"/>
                  <a:gd name="adj2" fmla="val 11981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33"/>
              <p:cNvSpPr/>
              <p:nvPr/>
            </p:nvSpPr>
            <p:spPr>
              <a:xfrm rot="20757600">
                <a:off x="4297320" y="2924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 Box 34"/>
            <p:cNvSpPr/>
            <p:nvPr/>
          </p:nvSpPr>
          <p:spPr>
            <a:xfrm rot="20757600">
              <a:off x="3038760" y="2808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5"/>
          <p:cNvGrpSpPr/>
          <p:nvPr/>
        </p:nvGrpSpPr>
        <p:grpSpPr>
          <a:xfrm>
            <a:off x="3550320" y="2529000"/>
            <a:ext cx="3016440" cy="1981080"/>
            <a:chOff x="3550320" y="2529000"/>
            <a:chExt cx="3016440" cy="1981080"/>
          </a:xfrm>
        </p:grpSpPr>
        <p:grpSp>
          <p:nvGrpSpPr>
            <p:cNvPr id="259" name="Group 36"/>
            <p:cNvGrpSpPr/>
            <p:nvPr/>
          </p:nvGrpSpPr>
          <p:grpSpPr>
            <a:xfrm>
              <a:off x="3860280" y="2529000"/>
              <a:ext cx="2706480" cy="1981080"/>
              <a:chOff x="3860280" y="2529000"/>
              <a:chExt cx="2706480" cy="1981080"/>
            </a:xfrm>
          </p:grpSpPr>
          <p:sp>
            <p:nvSpPr>
              <p:cNvPr id="260" name="AutoShape 37"/>
              <p:cNvSpPr/>
              <p:nvPr/>
            </p:nvSpPr>
            <p:spPr>
              <a:xfrm rot="19740000">
                <a:off x="3829320" y="3195360"/>
                <a:ext cx="2768040" cy="648000"/>
              </a:xfrm>
              <a:prstGeom prst="rightArrow">
                <a:avLst>
                  <a:gd name="adj1" fmla="val 50000"/>
                  <a:gd name="adj2" fmla="val 1067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38"/>
              <p:cNvSpPr/>
              <p:nvPr/>
            </p:nvSpPr>
            <p:spPr>
              <a:xfrm rot="19740000">
                <a:off x="4786920" y="350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 Box 39"/>
            <p:cNvSpPr/>
            <p:nvPr/>
          </p:nvSpPr>
          <p:spPr>
            <a:xfrm rot="19740000">
              <a:off x="3639240" y="3726360"/>
              <a:ext cx="18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40"/>
          <p:cNvGrpSpPr/>
          <p:nvPr/>
        </p:nvGrpSpPr>
        <p:grpSpPr>
          <a:xfrm>
            <a:off x="2843280" y="2060640"/>
            <a:ext cx="3456360" cy="952200"/>
            <a:chOff x="2843280" y="2060640"/>
            <a:chExt cx="3456360" cy="952200"/>
          </a:xfrm>
        </p:grpSpPr>
        <p:grpSp>
          <p:nvGrpSpPr>
            <p:cNvPr id="264" name="Group 41"/>
            <p:cNvGrpSpPr/>
            <p:nvPr/>
          </p:nvGrpSpPr>
          <p:grpSpPr>
            <a:xfrm>
              <a:off x="3059640" y="2349360"/>
              <a:ext cx="3240000" cy="663480"/>
              <a:chOff x="3059640" y="2349360"/>
              <a:chExt cx="3240000" cy="663480"/>
            </a:xfrm>
          </p:grpSpPr>
          <p:sp>
            <p:nvSpPr>
              <p:cNvPr id="265" name="AutoShape 42"/>
              <p:cNvSpPr/>
              <p:nvPr/>
            </p:nvSpPr>
            <p:spPr>
              <a:xfrm>
                <a:off x="3059640" y="2349360"/>
                <a:ext cx="3240000" cy="6480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43"/>
              <p:cNvSpPr/>
              <p:nvPr/>
            </p:nvSpPr>
            <p:spPr>
              <a:xfrm>
                <a:off x="4071960" y="2492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 Box 44"/>
            <p:cNvSpPr/>
            <p:nvPr/>
          </p:nvSpPr>
          <p:spPr>
            <a:xfrm>
              <a:off x="2843280" y="206064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45"/>
          <p:cNvGrpSpPr/>
          <p:nvPr/>
        </p:nvGrpSpPr>
        <p:grpSpPr>
          <a:xfrm>
            <a:off x="2482200" y="2565360"/>
            <a:ext cx="3957480" cy="2837520"/>
            <a:chOff x="2482200" y="2565360"/>
            <a:chExt cx="3957480" cy="2837520"/>
          </a:xfrm>
        </p:grpSpPr>
        <p:grpSp>
          <p:nvGrpSpPr>
            <p:cNvPr id="269" name="Group 46"/>
            <p:cNvGrpSpPr/>
            <p:nvPr/>
          </p:nvGrpSpPr>
          <p:grpSpPr>
            <a:xfrm>
              <a:off x="3097800" y="2565360"/>
              <a:ext cx="3341880" cy="2837520"/>
              <a:chOff x="3097800" y="2565360"/>
              <a:chExt cx="3341880" cy="2837520"/>
            </a:xfrm>
          </p:grpSpPr>
          <p:sp>
            <p:nvSpPr>
              <p:cNvPr id="270" name="AutoShape 47"/>
              <p:cNvSpPr/>
              <p:nvPr/>
            </p:nvSpPr>
            <p:spPr>
              <a:xfrm rot="19296000">
                <a:off x="2893320" y="3659760"/>
                <a:ext cx="3750480" cy="648000"/>
              </a:xfrm>
              <a:prstGeom prst="rightArrow">
                <a:avLst>
                  <a:gd name="adj1" fmla="val 50000"/>
                  <a:gd name="adj2" fmla="val 14469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48"/>
              <p:cNvSpPr/>
              <p:nvPr/>
            </p:nvSpPr>
            <p:spPr>
              <a:xfrm rot="19296000">
                <a:off x="4224960" y="412632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49"/>
            <p:cNvSpPr/>
            <p:nvPr/>
          </p:nvSpPr>
          <p:spPr>
            <a:xfrm rot="19296000">
              <a:off x="2585520" y="45896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50"/>
          <p:cNvGrpSpPr/>
          <p:nvPr/>
        </p:nvGrpSpPr>
        <p:grpSpPr>
          <a:xfrm>
            <a:off x="2148480" y="2428920"/>
            <a:ext cx="4413960" cy="2384280"/>
            <a:chOff x="2148480" y="2428920"/>
            <a:chExt cx="4413960" cy="2384280"/>
          </a:xfrm>
        </p:grpSpPr>
        <p:grpSp>
          <p:nvGrpSpPr>
            <p:cNvPr id="274" name="Group 51"/>
            <p:cNvGrpSpPr/>
            <p:nvPr/>
          </p:nvGrpSpPr>
          <p:grpSpPr>
            <a:xfrm>
              <a:off x="2530800" y="2428920"/>
              <a:ext cx="4031640" cy="2384280"/>
              <a:chOff x="2530800" y="2428920"/>
              <a:chExt cx="4031640" cy="2384280"/>
            </a:xfrm>
          </p:grpSpPr>
          <p:sp>
            <p:nvSpPr>
              <p:cNvPr id="275" name="AutoShape 52"/>
              <p:cNvSpPr/>
              <p:nvPr/>
            </p:nvSpPr>
            <p:spPr>
              <a:xfrm rot="20062200">
                <a:off x="2466000" y="3296880"/>
                <a:ext cx="4160880" cy="648000"/>
              </a:xfrm>
              <a:prstGeom prst="rightArrow">
                <a:avLst>
                  <a:gd name="adj1" fmla="val 50000"/>
                  <a:gd name="adj2" fmla="val 160528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3"/>
              <p:cNvSpPr/>
              <p:nvPr/>
            </p:nvSpPr>
            <p:spPr>
              <a:xfrm rot="20062200">
                <a:off x="3843720" y="37062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54"/>
            <p:cNvSpPr/>
            <p:nvPr/>
          </p:nvSpPr>
          <p:spPr>
            <a:xfrm rot="20062200">
              <a:off x="2225160" y="402372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55"/>
          <p:cNvGrpSpPr/>
          <p:nvPr/>
        </p:nvGrpSpPr>
        <p:grpSpPr>
          <a:xfrm>
            <a:off x="2176560" y="2243880"/>
            <a:ext cx="4266000" cy="1789560"/>
            <a:chOff x="2176560" y="2243880"/>
            <a:chExt cx="4266000" cy="1789560"/>
          </a:xfrm>
        </p:grpSpPr>
        <p:grpSp>
          <p:nvGrpSpPr>
            <p:cNvPr id="279" name="Group 56"/>
            <p:cNvGrpSpPr/>
            <p:nvPr/>
          </p:nvGrpSpPr>
          <p:grpSpPr>
            <a:xfrm>
              <a:off x="2515680" y="2243880"/>
              <a:ext cx="3926880" cy="1789560"/>
              <a:chOff x="2515680" y="2243880"/>
              <a:chExt cx="3926880" cy="1789560"/>
            </a:xfrm>
          </p:grpSpPr>
          <p:sp>
            <p:nvSpPr>
              <p:cNvPr id="280" name="AutoShape 57"/>
              <p:cNvSpPr/>
              <p:nvPr/>
            </p:nvSpPr>
            <p:spPr>
              <a:xfrm rot="20554800">
                <a:off x="2522880" y="2814480"/>
                <a:ext cx="3912480" cy="648000"/>
              </a:xfrm>
              <a:prstGeom prst="rightArrow">
                <a:avLst>
                  <a:gd name="adj1" fmla="val 50000"/>
                  <a:gd name="adj2" fmla="val 15094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58"/>
              <p:cNvSpPr/>
              <p:nvPr/>
            </p:nvSpPr>
            <p:spPr>
              <a:xfrm rot="20554800">
                <a:off x="3783240" y="31266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59"/>
            <p:cNvSpPr/>
            <p:nvPr/>
          </p:nvSpPr>
          <p:spPr>
            <a:xfrm rot="20554800">
              <a:off x="2231640" y="31806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60"/>
          <p:cNvGrpSpPr/>
          <p:nvPr/>
        </p:nvGrpSpPr>
        <p:grpSpPr>
          <a:xfrm>
            <a:off x="1575360" y="2420280"/>
            <a:ext cx="4926240" cy="3497400"/>
            <a:chOff x="1575360" y="2420280"/>
            <a:chExt cx="4926240" cy="3497400"/>
          </a:xfrm>
        </p:grpSpPr>
        <p:grpSp>
          <p:nvGrpSpPr>
            <p:cNvPr id="284" name="Group 61"/>
            <p:cNvGrpSpPr/>
            <p:nvPr/>
          </p:nvGrpSpPr>
          <p:grpSpPr>
            <a:xfrm>
              <a:off x="2028240" y="2420280"/>
              <a:ext cx="4473360" cy="3497400"/>
              <a:chOff x="2028240" y="2420280"/>
              <a:chExt cx="4473360" cy="3497400"/>
            </a:xfrm>
          </p:grpSpPr>
          <p:sp>
            <p:nvSpPr>
              <p:cNvPr id="285" name="AutoShape 62"/>
              <p:cNvSpPr/>
              <p:nvPr/>
            </p:nvSpPr>
            <p:spPr>
              <a:xfrm rot="19440000">
                <a:off x="1735560" y="3844800"/>
                <a:ext cx="5058360" cy="648000"/>
              </a:xfrm>
              <a:prstGeom prst="rightArrow">
                <a:avLst>
                  <a:gd name="adj1" fmla="val 50000"/>
                  <a:gd name="adj2" fmla="val 19515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63"/>
              <p:cNvSpPr/>
              <p:nvPr/>
            </p:nvSpPr>
            <p:spPr>
              <a:xfrm rot="19440000">
                <a:off x="3490200" y="4452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Text Box 64"/>
            <p:cNvSpPr/>
            <p:nvPr/>
          </p:nvSpPr>
          <p:spPr>
            <a:xfrm rot="19440000">
              <a:off x="1674000" y="5265360"/>
              <a:ext cx="18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65"/>
          <p:cNvGrpSpPr/>
          <p:nvPr/>
        </p:nvGrpSpPr>
        <p:grpSpPr>
          <a:xfrm>
            <a:off x="982440" y="2169720"/>
            <a:ext cx="5479920" cy="1568160"/>
            <a:chOff x="982440" y="2169720"/>
            <a:chExt cx="5479920" cy="1568160"/>
          </a:xfrm>
        </p:grpSpPr>
        <p:grpSp>
          <p:nvGrpSpPr>
            <p:cNvPr id="289" name="Group 66"/>
            <p:cNvGrpSpPr/>
            <p:nvPr/>
          </p:nvGrpSpPr>
          <p:grpSpPr>
            <a:xfrm>
              <a:off x="1372320" y="2169720"/>
              <a:ext cx="5090040" cy="1568160"/>
              <a:chOff x="1372320" y="2169720"/>
              <a:chExt cx="5090040" cy="1568160"/>
            </a:xfrm>
          </p:grpSpPr>
          <p:sp>
            <p:nvSpPr>
              <p:cNvPr id="290" name="AutoShape 67"/>
              <p:cNvSpPr/>
              <p:nvPr/>
            </p:nvSpPr>
            <p:spPr>
              <a:xfrm rot="20963400">
                <a:off x="1388520" y="2629800"/>
                <a:ext cx="5057280" cy="648000"/>
              </a:xfrm>
              <a:prstGeom prst="rightArrow">
                <a:avLst>
                  <a:gd name="adj1" fmla="val 50000"/>
                  <a:gd name="adj2" fmla="val 195111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8"/>
              <p:cNvSpPr/>
              <p:nvPr/>
            </p:nvSpPr>
            <p:spPr>
              <a:xfrm rot="20963400">
                <a:off x="2964600" y="291996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69"/>
            <p:cNvSpPr/>
            <p:nvPr/>
          </p:nvSpPr>
          <p:spPr>
            <a:xfrm rot="20963400">
              <a:off x="1017360" y="2855520"/>
              <a:ext cx="181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70"/>
          <p:cNvGrpSpPr/>
          <p:nvPr/>
        </p:nvGrpSpPr>
        <p:grpSpPr>
          <a:xfrm>
            <a:off x="921600" y="2540880"/>
            <a:ext cx="5367600" cy="2112120"/>
            <a:chOff x="921600" y="2540880"/>
            <a:chExt cx="5367600" cy="2112120"/>
          </a:xfrm>
        </p:grpSpPr>
        <p:grpSp>
          <p:nvGrpSpPr>
            <p:cNvPr id="294" name="Group 71"/>
            <p:cNvGrpSpPr/>
            <p:nvPr/>
          </p:nvGrpSpPr>
          <p:grpSpPr>
            <a:xfrm>
              <a:off x="1334160" y="2540880"/>
              <a:ext cx="4955040" cy="2112120"/>
              <a:chOff x="1334160" y="2540880"/>
              <a:chExt cx="4955040" cy="2112120"/>
            </a:xfrm>
          </p:grpSpPr>
          <p:sp>
            <p:nvSpPr>
              <p:cNvPr id="295" name="AutoShape 72"/>
              <p:cNvSpPr/>
              <p:nvPr/>
            </p:nvSpPr>
            <p:spPr>
              <a:xfrm rot="20554800">
                <a:off x="1316520" y="3272760"/>
                <a:ext cx="4989960" cy="648000"/>
              </a:xfrm>
              <a:prstGeom prst="rightArrow">
                <a:avLst>
                  <a:gd name="adj1" fmla="val 50000"/>
                  <a:gd name="adj2" fmla="val 19251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3"/>
              <p:cNvSpPr/>
              <p:nvPr/>
            </p:nvSpPr>
            <p:spPr>
              <a:xfrm rot="20554800">
                <a:off x="2904840" y="364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74"/>
            <p:cNvSpPr/>
            <p:nvPr/>
          </p:nvSpPr>
          <p:spPr>
            <a:xfrm rot="20554800">
              <a:off x="976680" y="382176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75"/>
          <p:cNvGrpSpPr/>
          <p:nvPr/>
        </p:nvGrpSpPr>
        <p:grpSpPr>
          <a:xfrm>
            <a:off x="711360" y="2508480"/>
            <a:ext cx="5484240" cy="3023640"/>
            <a:chOff x="711360" y="2508480"/>
            <a:chExt cx="5484240" cy="3023640"/>
          </a:xfrm>
        </p:grpSpPr>
        <p:grpSp>
          <p:nvGrpSpPr>
            <p:cNvPr id="299" name="Group 76"/>
            <p:cNvGrpSpPr/>
            <p:nvPr/>
          </p:nvGrpSpPr>
          <p:grpSpPr>
            <a:xfrm>
              <a:off x="1170000" y="2508480"/>
              <a:ext cx="5025600" cy="3023640"/>
              <a:chOff x="1170000" y="2508480"/>
              <a:chExt cx="5025600" cy="3023640"/>
            </a:xfrm>
          </p:grpSpPr>
          <p:sp>
            <p:nvSpPr>
              <p:cNvPr id="300" name="AutoShape 77"/>
              <p:cNvSpPr/>
              <p:nvPr/>
            </p:nvSpPr>
            <p:spPr>
              <a:xfrm rot="19957200">
                <a:off x="1020600" y="3696120"/>
                <a:ext cx="5324040" cy="648000"/>
              </a:xfrm>
              <a:prstGeom prst="rightArrow">
                <a:avLst>
                  <a:gd name="adj1" fmla="val 50000"/>
                  <a:gd name="adj2" fmla="val 20540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78"/>
              <p:cNvSpPr/>
              <p:nvPr/>
            </p:nvSpPr>
            <p:spPr>
              <a:xfrm rot="19957200">
                <a:off x="2780640" y="422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 Box 79"/>
            <p:cNvSpPr/>
            <p:nvPr/>
          </p:nvSpPr>
          <p:spPr>
            <a:xfrm rot="19957200">
              <a:off x="792360" y="47970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AutoShape 81"/>
          <p:cNvSpPr/>
          <p:nvPr/>
        </p:nvSpPr>
        <p:spPr>
          <a:xfrm>
            <a:off x="6227640" y="249228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F6DF-405A-4201-B296-BBAA3BB9D535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296720" y="1267920"/>
            <a:ext cx="838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idersprüchlich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07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19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81"/>
          <p:cNvSpPr/>
          <p:nvPr/>
        </p:nvSpPr>
        <p:spPr>
          <a:xfrm>
            <a:off x="6804000" y="530064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4EFC-B824-42C3-8265-8A30AB1E39D1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791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die (mindestens) ein Modell haben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36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48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33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365" name="AutoShape 34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5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368" name="AutoShape 37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8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FD28-53E1-4350-82CD-FA35DFCB3FC4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73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85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35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8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6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7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1" name="Group 57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02" name="AutoShape 42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43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5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05" name="AutoShape 46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51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C7FE-235C-4F41-9968-48D74697EDB4}" type="slidenum">
              <a:t>16</a:t>
            </a:fld>
          </a:p>
        </p:txBody>
      </p:sp>
    </p:spTree>
  </p:cSld>
  <p:transition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10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22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0"/>
          <p:cNvGrpSpPr/>
          <p:nvPr/>
        </p:nvGrpSpPr>
        <p:grpSpPr>
          <a:xfrm>
            <a:off x="4064760" y="4386960"/>
            <a:ext cx="1865520" cy="1065600"/>
            <a:chOff x="4064760" y="4386960"/>
            <a:chExt cx="1865520" cy="1065600"/>
          </a:xfrm>
        </p:grpSpPr>
        <p:sp>
          <p:nvSpPr>
            <p:cNvPr id="440" name="AutoShape 41"/>
            <p:cNvSpPr/>
            <p:nvPr/>
          </p:nvSpPr>
          <p:spPr>
            <a:xfrm rot="1333200">
              <a:off x="4070160" y="4722840"/>
              <a:ext cx="1854000" cy="393840"/>
            </a:xfrm>
            <a:prstGeom prst="rightArrow">
              <a:avLst>
                <a:gd name="adj1" fmla="val 54602"/>
                <a:gd name="adj2" fmla="val 13170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42"/>
            <p:cNvSpPr/>
            <p:nvPr/>
          </p:nvSpPr>
          <p:spPr>
            <a:xfrm>
              <a:off x="4468320" y="4581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43"/>
          <p:cNvGrpSpPr/>
          <p:nvPr/>
        </p:nvGrpSpPr>
        <p:grpSpPr>
          <a:xfrm>
            <a:off x="3492360" y="5288040"/>
            <a:ext cx="2232000" cy="520560"/>
            <a:chOff x="3492360" y="5288040"/>
            <a:chExt cx="2232000" cy="520560"/>
          </a:xfrm>
        </p:grpSpPr>
        <p:sp>
          <p:nvSpPr>
            <p:cNvPr id="443" name="AutoShape 44"/>
            <p:cNvSpPr/>
            <p:nvPr/>
          </p:nvSpPr>
          <p:spPr>
            <a:xfrm>
              <a:off x="3492360" y="5300640"/>
              <a:ext cx="2232000" cy="393840"/>
            </a:xfrm>
            <a:prstGeom prst="rightArrow">
              <a:avLst>
                <a:gd name="adj1" fmla="val 50000"/>
                <a:gd name="adj2" fmla="val 109646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45"/>
            <p:cNvSpPr/>
            <p:nvPr/>
          </p:nvSpPr>
          <p:spPr>
            <a:xfrm>
              <a:off x="4554000" y="52880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73C3-3D81-474C-ADFC-D6C9390570E2}" type="slidenum">
              <a:t>17</a:t>
            </a:fld>
          </a:p>
        </p:txBody>
      </p:sp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15056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en-US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48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60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40"/>
          <p:cNvSpPr/>
          <p:nvPr/>
        </p:nvSpPr>
        <p:spPr>
          <a:xfrm rot="5400000">
            <a:off x="5975280" y="4689360"/>
            <a:ext cx="360360" cy="719280"/>
          </a:xfrm>
          <a:prstGeom prst="rightArrow">
            <a:avLst>
              <a:gd name="adj1" fmla="val 50556"/>
              <a:gd name="adj2" fmla="val 52866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1"/>
          <p:cNvSpPr/>
          <p:nvPr/>
        </p:nvSpPr>
        <p:spPr>
          <a:xfrm>
            <a:off x="598140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D240-800F-4C15-936B-1BAA816FF221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42968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Semantik entlang der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066680" y="16686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es Prinzip bei Definition von Interpretat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Grundelementen wird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zusammengesetzten (konstruierten) Sätzen wird auf die Interpretation der Teile zurückgeführt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397"/>
          <p:cNvGrpSpPr/>
          <p:nvPr/>
        </p:nvGrpSpPr>
        <p:grpSpPr>
          <a:xfrm>
            <a:off x="2075040" y="5184360"/>
            <a:ext cx="1357560" cy="1306440"/>
            <a:chOff x="2075040" y="5184360"/>
            <a:chExt cx="1357560" cy="1306440"/>
          </a:xfrm>
        </p:grpSpPr>
        <p:pic>
          <p:nvPicPr>
            <p:cNvPr id="482" name="Picture 15" descr="GCJB1637"/>
            <p:cNvPicPr/>
            <p:nvPr/>
          </p:nvPicPr>
          <p:blipFill>
            <a:blip r:embed="rId1"/>
            <a:srcRect l="0" t="26755" r="47522" b="0"/>
            <a:stretch/>
          </p:blipFill>
          <p:spPr>
            <a:xfrm>
              <a:off x="2075040" y="5354640"/>
              <a:ext cx="115092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Rectangle 393"/>
            <p:cNvSpPr/>
            <p:nvPr/>
          </p:nvSpPr>
          <p:spPr>
            <a:xfrm rot="18470400">
              <a:off x="2857320" y="6121080"/>
              <a:ext cx="62064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94"/>
            <p:cNvSpPr/>
            <p:nvPr/>
          </p:nvSpPr>
          <p:spPr>
            <a:xfrm rot="17146200">
              <a:off x="3059280" y="5979600"/>
              <a:ext cx="3636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395"/>
            <p:cNvSpPr/>
            <p:nvPr/>
          </p:nvSpPr>
          <p:spPr>
            <a:xfrm rot="2088600">
              <a:off x="2990880" y="5330520"/>
              <a:ext cx="4366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396"/>
            <p:cNvSpPr/>
            <p:nvPr/>
          </p:nvSpPr>
          <p:spPr>
            <a:xfrm rot="3934200">
              <a:off x="2983680" y="5345640"/>
              <a:ext cx="4539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Oval 4"/>
          <p:cNvSpPr/>
          <p:nvPr/>
        </p:nvSpPr>
        <p:spPr>
          <a:xfrm>
            <a:off x="5530680" y="4765680"/>
            <a:ext cx="2232360" cy="20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993600" y="3827520"/>
            <a:ext cx="7921800" cy="113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Die Modell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genau die Interpreta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onen, die Modelle sowo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auch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1"/>
          <p:cNvSpPr/>
          <p:nvPr/>
        </p:nvSpPr>
        <p:spPr>
          <a:xfrm>
            <a:off x="6251400" y="548496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2"/>
          <p:cNvSpPr/>
          <p:nvPr/>
        </p:nvSpPr>
        <p:spPr>
          <a:xfrm>
            <a:off x="6107040" y="613404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4"/>
          <p:cNvSpPr/>
          <p:nvPr/>
        </p:nvSpPr>
        <p:spPr>
          <a:xfrm>
            <a:off x="5818320" y="490860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7"/>
          <p:cNvGrpSpPr/>
          <p:nvPr/>
        </p:nvGrpSpPr>
        <p:grpSpPr>
          <a:xfrm>
            <a:off x="3205080" y="4887360"/>
            <a:ext cx="2710440" cy="883080"/>
            <a:chOff x="3205080" y="4887360"/>
            <a:chExt cx="2710440" cy="883080"/>
          </a:xfrm>
        </p:grpSpPr>
        <p:sp>
          <p:nvSpPr>
            <p:cNvPr id="493" name="AutoShape 20"/>
            <p:cNvSpPr/>
            <p:nvPr/>
          </p:nvSpPr>
          <p:spPr>
            <a:xfrm rot="21103800">
              <a:off x="3227400" y="5076360"/>
              <a:ext cx="2665440" cy="504720"/>
            </a:xfrm>
            <a:prstGeom prst="rightArrow">
              <a:avLst>
                <a:gd name="adj1" fmla="val 46111"/>
                <a:gd name="adj2" fmla="val 107625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2"/>
            <p:cNvSpPr/>
            <p:nvPr/>
          </p:nvSpPr>
          <p:spPr>
            <a:xfrm>
              <a:off x="4347720" y="51242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26"/>
          <p:cNvGrpSpPr/>
          <p:nvPr/>
        </p:nvGrpSpPr>
        <p:grpSpPr>
          <a:xfrm>
            <a:off x="3298680" y="5504040"/>
            <a:ext cx="3024000" cy="572760"/>
            <a:chOff x="3298680" y="5504040"/>
            <a:chExt cx="3024000" cy="572760"/>
          </a:xfrm>
        </p:grpSpPr>
        <p:sp>
          <p:nvSpPr>
            <p:cNvPr id="496" name="AutoShape 19"/>
            <p:cNvSpPr/>
            <p:nvPr/>
          </p:nvSpPr>
          <p:spPr>
            <a:xfrm>
              <a:off x="3298680" y="5504040"/>
              <a:ext cx="3024000" cy="504360"/>
            </a:xfrm>
            <a:prstGeom prst="rightArrow">
              <a:avLst>
                <a:gd name="adj1" fmla="val 46111"/>
                <a:gd name="adj2" fmla="val 12219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3"/>
            <p:cNvSpPr/>
            <p:nvPr/>
          </p:nvSpPr>
          <p:spPr>
            <a:xfrm>
              <a:off x="4563360" y="55562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5"/>
          <p:cNvGrpSpPr/>
          <p:nvPr/>
        </p:nvGrpSpPr>
        <p:grpSpPr>
          <a:xfrm>
            <a:off x="3203640" y="5737320"/>
            <a:ext cx="2852640" cy="1005480"/>
            <a:chOff x="3203640" y="5737320"/>
            <a:chExt cx="2852640" cy="1005480"/>
          </a:xfrm>
        </p:grpSpPr>
        <p:sp>
          <p:nvSpPr>
            <p:cNvPr id="499" name="AutoShape 17"/>
            <p:cNvSpPr/>
            <p:nvPr/>
          </p:nvSpPr>
          <p:spPr>
            <a:xfrm rot="627000">
              <a:off x="3225960" y="5987520"/>
              <a:ext cx="2807640" cy="504720"/>
            </a:xfrm>
            <a:prstGeom prst="rightArrow">
              <a:avLst>
                <a:gd name="adj1" fmla="val 46111"/>
                <a:gd name="adj2" fmla="val 113367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24"/>
            <p:cNvSpPr/>
            <p:nvPr/>
          </p:nvSpPr>
          <p:spPr>
            <a:xfrm>
              <a:off x="4404600" y="59878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012C-9AC7-471A-B9C2-3C83E47D8864}" type="slidenum">
              <a:t>19</a:t>
            </a:fld>
          </a:p>
        </p:txBody>
      </p:sp>
    </p:spTree>
  </p:cSld>
  <p:transition>
    <p:fad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520" y="1152000"/>
            <a:ext cx="7358040" cy="23209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59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93520" y="3472920"/>
            <a:ext cx="7358040" cy="234972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25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Parallels Picture"/>
          <p:cNvPicPr/>
          <p:nvPr/>
        </p:nvPicPr>
        <p:blipFill>
          <a:blip r:embed="rId1"/>
          <a:stretch/>
        </p:blipFill>
        <p:spPr>
          <a:xfrm>
            <a:off x="3876840" y="1596960"/>
            <a:ext cx="2835000" cy="27259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Beweis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ück zu Leibniz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henmaschin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: Möglichkeit, direkt mit allen möglichen Interpretationen zu arbeiten, oft eing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her: Versuch, Schlussfolgerungsrelation durch rein syntaktische Verfahren zu beschreiben/be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8"/>
          <p:cNvSpPr/>
          <p:nvPr/>
        </p:nvSpPr>
        <p:spPr>
          <a:xfrm>
            <a:off x="5813280" y="186228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9"/>
          <p:cNvSpPr/>
          <p:nvPr/>
        </p:nvSpPr>
        <p:spPr>
          <a:xfrm>
            <a:off x="6029280" y="1574640"/>
            <a:ext cx="2890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20"/>
          <p:cNvSpPr/>
          <p:nvPr/>
        </p:nvSpPr>
        <p:spPr>
          <a:xfrm>
            <a:off x="6461280" y="1214280"/>
            <a:ext cx="1728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7" descr="ED06184"/>
          <p:cNvPicPr/>
          <p:nvPr/>
        </p:nvPicPr>
        <p:blipFill>
          <a:blip r:embed="rId2"/>
          <a:stretch/>
        </p:blipFill>
        <p:spPr>
          <a:xfrm>
            <a:off x="6821640" y="1285920"/>
            <a:ext cx="934920" cy="93168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23"/>
          <p:cNvSpPr/>
          <p:nvPr/>
        </p:nvSpPr>
        <p:spPr>
          <a:xfrm>
            <a:off x="7589160" y="13892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sam10"/>
              </a:rPr>
              <a:t>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10FD-065E-4855-8631-45DBD5988DD8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8060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Entscheidungsverfahren/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414320" y="1677600"/>
            <a:ext cx="511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Meng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n und Satz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t nach endlicher 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“, falls {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“ s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thmus für eine Logik, d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nnt man 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2111400" y="14619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1390680" y="3406680"/>
            <a:ext cx="259236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INDUS050"/>
          <p:cNvPicPr/>
          <p:nvPr/>
        </p:nvPicPr>
        <p:blipFill>
          <a:blip r:embed="rId1"/>
          <a:stretch/>
        </p:blipFill>
        <p:spPr>
          <a:xfrm>
            <a:off x="2471760" y="405432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METER"/>
          <p:cNvPicPr/>
          <p:nvPr/>
        </p:nvPicPr>
        <p:blipFill>
          <a:blip r:embed="rId2"/>
          <a:stretch/>
        </p:blipFill>
        <p:spPr>
          <a:xfrm>
            <a:off x="1461960" y="4290840"/>
            <a:ext cx="1079640" cy="1019520"/>
          </a:xfrm>
          <a:prstGeom prst="rect">
            <a:avLst/>
          </a:prstGeom>
          <a:ln w="0">
            <a:noFill/>
          </a:ln>
        </p:spPr>
      </p:pic>
      <p:sp>
        <p:nvSpPr>
          <p:cNvPr id="515" name="AutoShape 8"/>
          <p:cNvSpPr/>
          <p:nvPr/>
        </p:nvSpPr>
        <p:spPr>
          <a:xfrm>
            <a:off x="1461960" y="297504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9"/>
          <p:cNvSpPr/>
          <p:nvPr/>
        </p:nvSpPr>
        <p:spPr>
          <a:xfrm>
            <a:off x="2901960" y="297504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10"/>
          <p:cNvSpPr/>
          <p:nvPr/>
        </p:nvSpPr>
        <p:spPr>
          <a:xfrm>
            <a:off x="3046320" y="196524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2"/>
          <p:cNvSpPr/>
          <p:nvPr/>
        </p:nvSpPr>
        <p:spPr>
          <a:xfrm>
            <a:off x="1541520" y="166860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5"/>
          <p:cNvSpPr/>
          <p:nvPr/>
        </p:nvSpPr>
        <p:spPr>
          <a:xfrm>
            <a:off x="3191040" y="254160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1751040" y="254160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7"/>
          <p:cNvSpPr/>
          <p:nvPr/>
        </p:nvSpPr>
        <p:spPr>
          <a:xfrm>
            <a:off x="2327400" y="5423040"/>
            <a:ext cx="9349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2327400" y="347832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o-mat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1895400" y="347832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524" name="AutoShape 22"/>
          <p:cNvSpPr/>
          <p:nvPr/>
        </p:nvSpPr>
        <p:spPr>
          <a:xfrm>
            <a:off x="1390680" y="174960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1596960" y="19605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6" descr="sha0014"/>
          <p:cNvPicPr/>
          <p:nvPr/>
        </p:nvPicPr>
        <p:blipFill>
          <a:blip r:embed="rId7"/>
          <a:stretch/>
        </p:blipFill>
        <p:spPr>
          <a:xfrm>
            <a:off x="4056120" y="3406680"/>
            <a:ext cx="638280" cy="9352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7" descr="ICN_073C"/>
          <p:cNvPicPr/>
          <p:nvPr/>
        </p:nvPicPr>
        <p:blipFill>
          <a:blip r:embed="rId8"/>
          <a:stretch/>
        </p:blipFill>
        <p:spPr>
          <a:xfrm>
            <a:off x="1247760" y="5567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8" descr="ICN_073C"/>
          <p:cNvPicPr/>
          <p:nvPr/>
        </p:nvPicPr>
        <p:blipFill>
          <a:blip r:embed="rId9"/>
          <a:stretch/>
        </p:blipFill>
        <p:spPr>
          <a:xfrm>
            <a:off x="3191040" y="5638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14"/>
          <p:cNvSpPr/>
          <p:nvPr/>
        </p:nvSpPr>
        <p:spPr>
          <a:xfrm>
            <a:off x="1607400" y="5927760"/>
            <a:ext cx="24624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A/NEI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D97C-1B7E-492F-B59F-0561ACD61355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8060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fzählungsverfahren/Semi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016160" y="1801440"/>
            <a:ext cx="550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zäh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Sätz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Sätz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ür di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solche Satz wir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rgendwann) aus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"/>
          <p:cNvSpPr/>
          <p:nvPr/>
        </p:nvSpPr>
        <p:spPr>
          <a:xfrm>
            <a:off x="1928880" y="137016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1359000" y="1576440"/>
            <a:ext cx="93636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9"/>
          <p:cNvSpPr/>
          <p:nvPr/>
        </p:nvSpPr>
        <p:spPr>
          <a:xfrm>
            <a:off x="1208160" y="165744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0"/>
          <p:cNvSpPr/>
          <p:nvPr/>
        </p:nvSpPr>
        <p:spPr>
          <a:xfrm>
            <a:off x="1414440" y="186840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1"/>
          <p:cNvSpPr/>
          <p:nvPr/>
        </p:nvSpPr>
        <p:spPr>
          <a:xfrm>
            <a:off x="380880" y="547380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rithm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Logik, dann nennt m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mi-entscheidb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2" descr="INDUS041"/>
          <p:cNvPicPr/>
          <p:nvPr/>
        </p:nvPicPr>
        <p:blipFill>
          <a:blip r:embed="rId1"/>
          <a:stretch/>
        </p:blipFill>
        <p:spPr>
          <a:xfrm flipH="1">
            <a:off x="3548160" y="4826160"/>
            <a:ext cx="5976720" cy="18032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5"/>
          <p:cNvSpPr/>
          <p:nvPr/>
        </p:nvSpPr>
        <p:spPr>
          <a:xfrm>
            <a:off x="1208160" y="3314880"/>
            <a:ext cx="259236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INDUS050"/>
          <p:cNvPicPr/>
          <p:nvPr/>
        </p:nvPicPr>
        <p:blipFill>
          <a:blip r:embed="rId2"/>
          <a:stretch/>
        </p:blipFill>
        <p:spPr>
          <a:xfrm>
            <a:off x="2289240" y="396252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METER"/>
          <p:cNvPicPr/>
          <p:nvPr/>
        </p:nvPicPr>
        <p:blipFill>
          <a:blip r:embed="rId3"/>
          <a:stretch/>
        </p:blipFill>
        <p:spPr>
          <a:xfrm>
            <a:off x="1279440" y="419904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541" name="WordArt 17"/>
          <p:cNvSpPr txBox="1"/>
          <p:nvPr/>
        </p:nvSpPr>
        <p:spPr>
          <a:xfrm>
            <a:off x="1784520" y="338616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semi-o-mat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WordArt 18"/>
          <p:cNvSpPr txBox="1"/>
          <p:nvPr/>
        </p:nvSpPr>
        <p:spPr>
          <a:xfrm>
            <a:off x="1352520" y="338616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543" name="AutoShape 10"/>
          <p:cNvSpPr/>
          <p:nvPr/>
        </p:nvSpPr>
        <p:spPr>
          <a:xfrm>
            <a:off x="7977240" y="5473800"/>
            <a:ext cx="1008000" cy="647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1279440" y="2882880"/>
            <a:ext cx="1079640" cy="43200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1568520" y="244944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3" descr="ICN_073C"/>
          <p:cNvPicPr/>
          <p:nvPr/>
        </p:nvPicPr>
        <p:blipFill>
          <a:blip r:embed="rId8"/>
          <a:stretch/>
        </p:blipFill>
        <p:spPr>
          <a:xfrm>
            <a:off x="6824520" y="525780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4" descr="ICN_073C"/>
          <p:cNvPicPr/>
          <p:nvPr/>
        </p:nvPicPr>
        <p:blipFill>
          <a:blip r:embed="rId9"/>
          <a:stretch/>
        </p:blipFill>
        <p:spPr>
          <a:xfrm>
            <a:off x="5961240" y="49705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5" descr="ICN_073C"/>
          <p:cNvPicPr/>
          <p:nvPr/>
        </p:nvPicPr>
        <p:blipFill>
          <a:blip r:embed="rId10"/>
          <a:stretch/>
        </p:blipFill>
        <p:spPr>
          <a:xfrm>
            <a:off x="5024520" y="47545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6" descr="ICN_073C"/>
          <p:cNvPicPr/>
          <p:nvPr/>
        </p:nvPicPr>
        <p:blipFill>
          <a:blip r:embed="rId11"/>
          <a:stretch/>
        </p:blipFill>
        <p:spPr>
          <a:xfrm>
            <a:off x="4376880" y="475452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7" descr="ICN_073C"/>
          <p:cNvPicPr/>
          <p:nvPr/>
        </p:nvPicPr>
        <p:blipFill>
          <a:blip r:embed="rId12"/>
          <a:stretch/>
        </p:blipFill>
        <p:spPr>
          <a:xfrm>
            <a:off x="3944880" y="4754520"/>
            <a:ext cx="362160" cy="3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F835-70C0-4159-A9F0-40CA54E69DF6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gesehen werden als spezielle Form eines Aufzählungsverfa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bleitungsregel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53"/>
          <p:cNvGrpSpPr/>
          <p:nvPr/>
        </p:nvGrpSpPr>
        <p:grpSpPr>
          <a:xfrm>
            <a:off x="3708360" y="4076640"/>
            <a:ext cx="1728720" cy="1893960"/>
            <a:chOff x="3708360" y="4076640"/>
            <a:chExt cx="1728720" cy="1893960"/>
          </a:xfrm>
        </p:grpSpPr>
        <p:sp>
          <p:nvSpPr>
            <p:cNvPr id="554" name="Rectangle 32"/>
            <p:cNvSpPr/>
            <p:nvPr/>
          </p:nvSpPr>
          <p:spPr>
            <a:xfrm>
              <a:off x="3708360" y="4530600"/>
              <a:ext cx="1728720" cy="1440000"/>
            </a:xfrm>
            <a:prstGeom prst="rect">
              <a:avLst/>
            </a:prstGeom>
            <a:solidFill>
              <a:srgbClr val="79ff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"/>
            <p:cNvSpPr/>
            <p:nvPr/>
          </p:nvSpPr>
          <p:spPr>
            <a:xfrm>
              <a:off x="3708360" y="52308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7"/>
            <p:cNvSpPr/>
            <p:nvPr/>
          </p:nvSpPr>
          <p:spPr>
            <a:xfrm>
              <a:off x="3708360" y="45306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3708360" y="45306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1"/>
            <p:cNvSpPr/>
            <p:nvPr/>
          </p:nvSpPr>
          <p:spPr>
            <a:xfrm>
              <a:off x="3708360" y="59310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>
              <a:off x="370836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>
              <a:off x="543708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7"/>
            <p:cNvSpPr/>
            <p:nvPr/>
          </p:nvSpPr>
          <p:spPr>
            <a:xfrm>
              <a:off x="370836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8"/>
            <p:cNvSpPr/>
            <p:nvPr/>
          </p:nvSpPr>
          <p:spPr>
            <a:xfrm>
              <a:off x="543708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21"/>
            <p:cNvSpPr/>
            <p:nvPr/>
          </p:nvSpPr>
          <p:spPr>
            <a:xfrm>
              <a:off x="3708360" y="52308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33"/>
            <p:cNvSpPr/>
            <p:nvPr/>
          </p:nvSpPr>
          <p:spPr>
            <a:xfrm>
              <a:off x="4775040" y="4076640"/>
              <a:ext cx="64800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34"/>
            <p:cNvSpPr/>
            <p:nvPr/>
          </p:nvSpPr>
          <p:spPr>
            <a:xfrm>
              <a:off x="3784680" y="4076640"/>
              <a:ext cx="64764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36"/>
          <p:cNvSpPr/>
          <p:nvPr/>
        </p:nvSpPr>
        <p:spPr>
          <a:xfrm>
            <a:off x="482400" y="2924280"/>
            <a:ext cx="31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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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7"/>
          <p:cNvSpPr/>
          <p:nvPr/>
        </p:nvSpPr>
        <p:spPr>
          <a:xfrm>
            <a:off x="716040" y="292752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8"/>
          <p:cNvSpPr/>
          <p:nvPr/>
        </p:nvSpPr>
        <p:spPr>
          <a:xfrm>
            <a:off x="1293120" y="2919240"/>
            <a:ext cx="5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9"/>
          <p:cNvSpPr/>
          <p:nvPr/>
        </p:nvSpPr>
        <p:spPr>
          <a:xfrm>
            <a:off x="3780000" y="522936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0"/>
          <p:cNvSpPr/>
          <p:nvPr/>
        </p:nvSpPr>
        <p:spPr>
          <a:xfrm>
            <a:off x="3708360" y="4521240"/>
            <a:ext cx="1728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51"/>
          <p:cNvSpPr/>
          <p:nvPr/>
        </p:nvSpPr>
        <p:spPr>
          <a:xfrm>
            <a:off x="3708360" y="52214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9"/>
          <p:cNvSpPr/>
          <p:nvPr/>
        </p:nvSpPr>
        <p:spPr>
          <a:xfrm>
            <a:off x="3780000" y="522936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7FEA-426B-4227-82B7-E2958C207922}" type="slidenum">
              <a:t>23</a:t>
            </a:fld>
          </a:p>
        </p:txBody>
      </p:sp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05468 0.10417 0.10937 0.20834 0.15989 0.20139 C 0.21041 0.19445 0.27361 -0.04699 0.30312 -0.04166 C 0.33264 -0.03634 0.33472 0.09885 0.33698 0.23403 E">
                                      <p:cBhvr>
                                        <p:cTn id="41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0.02309 0.03102 0.07847 0.19398 0.13907 0.18634 C 0.19966 0.17871 0.32257 -0.05416 0.36354 -0.04629 C 0.40452 -0.03842 0.38091 0.175 0.38542 0.23334 E">
                                      <p:cBhvr>
                                        <p:cTn id="420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-0.01909 0.04954 -0.03802 0.09931 -0.07239 0.09097 C -0.10677 0.08264 -0.18906 0.0213 -0.20625 -0.05 C -0.22343 -0.12129 -0.19948 -0.2294 -0.17552 -0.3375 E">
                                      <p:cBhvr>
                                        <p:cTn id="434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21932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atz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s einer Men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Sätz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leit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schrieb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sich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wiederholtes Anwenden der Ableitungsregeln eines Deduktionskalküls au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erzeugen“ läs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orre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ableitbaren Schlüsse auch wirklich logisch 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ll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logischen Konsequenzen auch abgeleitet werden kö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m korrekten und vollständigen Deduktionskalkül gil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man kann es als Aufzählungsverfahren verwend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htung! Es gibt Logiken, für die nachweislich kein solches Deduktionskalkül existiert (Gödel 19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25"/>
          <p:cNvGrpSpPr/>
          <p:nvPr/>
        </p:nvGrpSpPr>
        <p:grpSpPr>
          <a:xfrm>
            <a:off x="453960" y="5157720"/>
            <a:ext cx="1069920" cy="1495440"/>
            <a:chOff x="453960" y="5157720"/>
            <a:chExt cx="1069920" cy="1495440"/>
          </a:xfrm>
        </p:grpSpPr>
        <p:pic>
          <p:nvPicPr>
            <p:cNvPr id="576" name="Picture 23" descr="goedel-kurt"/>
            <p:cNvPicPr/>
            <p:nvPr/>
          </p:nvPicPr>
          <p:blipFill>
            <a:blip r:embed="rId1"/>
            <a:srcRect l="14554" t="0" r="10232" b="25893"/>
            <a:stretch/>
          </p:blipFill>
          <p:spPr>
            <a:xfrm>
              <a:off x="453960" y="5168880"/>
              <a:ext cx="106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24"/>
            <p:cNvSpPr/>
            <p:nvPr/>
          </p:nvSpPr>
          <p:spPr>
            <a:xfrm>
              <a:off x="453960" y="5157720"/>
              <a:ext cx="1066680" cy="1495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2D95-DA4C-4DB3-8D8A-B4D260AC1AB1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eitere interessante Eigenschaften von Logike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akt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ische Komplexität für Entscheidungs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 jede Menge ande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5AC6-7BE0-42EA-9892-BB1AA6D4736B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position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oles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on bei den Stoikern vo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arbeitete Junktoren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rge Boole (1815 – 1864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Investigation of the Laws of Thoug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ktische Grundelement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omare Sätze / Propositionen / Aussa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, q,…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önnen als natürlichsprachliche Aussagen gedacht werden: „Es regnet.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5" descr="Parallels Picture 2"/>
          <p:cNvPicPr/>
          <p:nvPr/>
        </p:nvPicPr>
        <p:blipFill>
          <a:blip r:embed="rId1"/>
          <a:srcRect l="16668" t="18075" r="69423" b="60077"/>
          <a:stretch/>
        </p:blipFill>
        <p:spPr>
          <a:xfrm>
            <a:off x="5562720" y="1219320"/>
            <a:ext cx="1908000" cy="18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6080-3F5B-40A9-B1CA-AD2AB92C078B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6"/>
          <p:cNvSpPr/>
          <p:nvPr/>
        </p:nvSpPr>
        <p:spPr>
          <a:xfrm>
            <a:off x="154764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1"/>
          <p:cNvSpPr/>
          <p:nvPr/>
        </p:nvSpPr>
        <p:spPr>
          <a:xfrm>
            <a:off x="313200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2"/>
          <p:cNvSpPr/>
          <p:nvPr/>
        </p:nvSpPr>
        <p:spPr>
          <a:xfrm>
            <a:off x="4572000" y="3357720"/>
            <a:ext cx="129708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3"/>
          <p:cNvSpPr/>
          <p:nvPr/>
        </p:nvSpPr>
        <p:spPr>
          <a:xfrm>
            <a:off x="6372360" y="3357720"/>
            <a:ext cx="136836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8" name="AutoShape 14"/>
          <p:cNvSpPr/>
          <p:nvPr/>
        </p:nvSpPr>
        <p:spPr>
          <a:xfrm>
            <a:off x="2028960" y="3043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7380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0"/>
          <p:cNvSpPr/>
          <p:nvPr/>
        </p:nvSpPr>
        <p:spPr>
          <a:xfrm>
            <a:off x="6948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7"/>
          <p:cNvSpPr/>
          <p:nvPr/>
        </p:nvSpPr>
        <p:spPr>
          <a:xfrm>
            <a:off x="2917800" y="305604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5148360" y="2637000"/>
            <a:ext cx="64764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9"/>
          <p:cNvSpPr/>
          <p:nvPr/>
        </p:nvSpPr>
        <p:spPr>
          <a:xfrm>
            <a:off x="1908000" y="2637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ungsregeln für Sät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atomaren Propositionen sind Sätze ( p , q 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 φ ein Satz, dann auch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φ und ψ Sätze, dann a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φ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 , (φ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, (φ → ψ) und (φ ↔ 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mmern können ggf. weggelassen werden;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zedenzen (bei uns)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tzli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mmern machen es trotzem oft lesbar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FAB2-A2AF-4949-B791-0F97E94B5155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 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905120" y="1415880"/>
          <a:ext cx="5715000" cy="2089440"/>
        </p:xfrm>
        <a:graphic>
          <a:graphicData uri="http://schemas.openxmlformats.org/drawingml/2006/table">
            <a:tbl>
              <a:tblPr/>
              <a:tblGrid>
                <a:gridCol w="950760"/>
                <a:gridCol w="1487520"/>
                <a:gridCol w="327672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unk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tuitive Bedeu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k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quivale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– da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u dann, we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611280" y="3645000"/>
          <a:ext cx="7773840" cy="1463400"/>
        </p:xfrm>
        <a:graphic>
          <a:graphicData uri="http://schemas.openxmlformats.org/drawingml/2006/table">
            <a:tbl>
              <a:tblPr/>
              <a:tblGrid>
                <a:gridCol w="5327640"/>
                <a:gridCol w="24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infach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e wird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onne ist grü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684360" y="5229360"/>
          <a:ext cx="7702560" cy="1371600"/>
        </p:xfrm>
        <a:graphic>
          <a:graphicData uri="http://schemas.openxmlformats.org/drawingml/2006/table">
            <a:tbl>
              <a:tblPr/>
              <a:tblGrid>
                <a:gridCol w="5279760"/>
                <a:gridCol w="24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Zusammengesetzt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dann wird die Straße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und die Straße nicht nass wird, dann ist die Sonne grün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4E03-E2F1-4ECB-92EA-6A00D6FA1310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52388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Modelle der Aussagenlogi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02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0"/>
          <p:cNvSpPr/>
          <p:nvPr/>
        </p:nvSpPr>
        <p:spPr>
          <a:xfrm>
            <a:off x="5364000" y="4365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21"/>
          <p:cNvSpPr/>
          <p:nvPr/>
        </p:nvSpPr>
        <p:spPr>
          <a:xfrm>
            <a:off x="6659640" y="285264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22"/>
          <p:cNvSpPr/>
          <p:nvPr/>
        </p:nvSpPr>
        <p:spPr>
          <a:xfrm>
            <a:off x="5508720" y="328464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3"/>
          <p:cNvSpPr/>
          <p:nvPr/>
        </p:nvSpPr>
        <p:spPr>
          <a:xfrm>
            <a:off x="6588000" y="4941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25"/>
          <p:cNvSpPr/>
          <p:nvPr/>
        </p:nvSpPr>
        <p:spPr>
          <a:xfrm>
            <a:off x="6588000" y="357336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1825560" y="270828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2401920" y="386064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457200" y="3789360"/>
          <a:ext cx="1306440" cy="89208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1754280" y="501336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15" name="Group 201"/>
          <p:cNvGrpSpPr/>
          <p:nvPr/>
        </p:nvGrpSpPr>
        <p:grpSpPr>
          <a:xfrm>
            <a:off x="3134520" y="4570920"/>
            <a:ext cx="2225520" cy="1143720"/>
            <a:chOff x="3134520" y="4570920"/>
            <a:chExt cx="2225520" cy="1143720"/>
          </a:xfrm>
        </p:grpSpPr>
        <p:sp>
          <p:nvSpPr>
            <p:cNvPr id="616" name="AutoShape 202"/>
            <p:cNvSpPr/>
            <p:nvPr/>
          </p:nvSpPr>
          <p:spPr>
            <a:xfrm rot="20372400">
              <a:off x="3132000" y="4948200"/>
              <a:ext cx="2230200" cy="388800"/>
            </a:xfrm>
            <a:prstGeom prst="rightArrow">
              <a:avLst>
                <a:gd name="adj1" fmla="val 50000"/>
                <a:gd name="adj2" fmla="val 1434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03"/>
            <p:cNvSpPr/>
            <p:nvPr/>
          </p:nvSpPr>
          <p:spPr>
            <a:xfrm>
              <a:off x="4042080" y="494172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AutoShape 205"/>
          <p:cNvSpPr/>
          <p:nvPr/>
        </p:nvSpPr>
        <p:spPr>
          <a:xfrm rot="20372400">
            <a:off x="3709800" y="3727440"/>
            <a:ext cx="1871640" cy="388800"/>
          </a:xfrm>
          <a:prstGeom prst="rightArrow">
            <a:avLst>
              <a:gd name="adj1" fmla="val 50000"/>
              <a:gd name="adj2" fmla="val 120347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06"/>
          <p:cNvSpPr/>
          <p:nvPr/>
        </p:nvSpPr>
        <p:spPr>
          <a:xfrm>
            <a:off x="4468320" y="371628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07"/>
          <p:cNvSpPr/>
          <p:nvPr/>
        </p:nvSpPr>
        <p:spPr>
          <a:xfrm rot="481200">
            <a:off x="3273480" y="3021120"/>
            <a:ext cx="2303280" cy="388800"/>
          </a:xfrm>
          <a:prstGeom prst="rightArrow">
            <a:avLst>
              <a:gd name="adj1" fmla="val 50000"/>
              <a:gd name="adj2" fmla="val 14810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08"/>
          <p:cNvSpPr/>
          <p:nvPr/>
        </p:nvSpPr>
        <p:spPr>
          <a:xfrm>
            <a:off x="410796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210"/>
          <p:cNvSpPr/>
          <p:nvPr/>
        </p:nvSpPr>
        <p:spPr>
          <a:xfrm rot="369600">
            <a:off x="3780000" y="4292280"/>
            <a:ext cx="1584000" cy="388800"/>
          </a:xfrm>
          <a:prstGeom prst="rightArrow">
            <a:avLst>
              <a:gd name="adj1" fmla="val 53602"/>
              <a:gd name="adj2" fmla="val 14529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209"/>
          <p:cNvSpPr/>
          <p:nvPr/>
        </p:nvSpPr>
        <p:spPr>
          <a:xfrm>
            <a:off x="4252320" y="42210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11"/>
          <p:cNvSpPr/>
          <p:nvPr/>
        </p:nvSpPr>
        <p:spPr>
          <a:xfrm>
            <a:off x="6516720" y="4292640"/>
            <a:ext cx="201600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AA19-5A28-4C83-9847-07424AF4C4B2}" type="slidenum">
              <a:t>29</a:t>
            </a:fld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1200"/>
            <a:ext cx="10261440" cy="633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k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Grundla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5165640" y="2327400"/>
            <a:ext cx="3251160" cy="2728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164200" y="2338560"/>
            <a:ext cx="3252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3040" tIns="26640" bIns="2664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165640" y="2584440"/>
            <a:ext cx="3257640" cy="401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295960" y="2746440"/>
            <a:ext cx="3009960" cy="311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5375160" y="4064040"/>
            <a:ext cx="2287800" cy="20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981760" y="584532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75160" y="3165480"/>
            <a:ext cx="289404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730840" y="3197160"/>
            <a:ext cx="11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259240" y="2705040"/>
            <a:ext cx="3133800" cy="342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2"/>
          <a:srcRect l="33303" t="43631" r="21726" b="32720"/>
          <a:stretch/>
        </p:blipFill>
        <p:spPr>
          <a:xfrm>
            <a:off x="6299280" y="4089240"/>
            <a:ext cx="135396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468360" y="2060640"/>
          <a:ext cx="4268520" cy="4524480"/>
        </p:xfrm>
        <a:graphic>
          <a:graphicData uri="http://schemas.openxmlformats.org/drawingml/2006/table">
            <a:tbl>
              <a:tblPr/>
              <a:tblGrid>
                <a:gridCol w="4268520"/>
              </a:tblGrid>
              <a:tr h="32400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Regelsprac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- Syntax und Semanti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64"/>
          <p:cNvSpPr/>
          <p:nvPr/>
        </p:nvSpPr>
        <p:spPr>
          <a:xfrm>
            <a:off x="468360" y="3284640"/>
            <a:ext cx="4294080" cy="30312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EB6C-680D-407D-900C-D54E608B60D4}" type="slidenum">
              <a:t>3</a:t>
            </a:fld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92"/>
          <p:cNvSpPr/>
          <p:nvPr/>
        </p:nvSpPr>
        <p:spPr>
          <a:xfrm>
            <a:off x="755640" y="3357720"/>
            <a:ext cx="8209080" cy="344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17240" y="19807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: Interpretatione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Abbildungen von der Menge der atomaren Propositionen in die Menge {wahr, falsch}, d.h. jeder dieser Proposi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ein Wahrheitswer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bestimmt man Modelle für zusammengesetzte Sätze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↔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n oder k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beiden Sätze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4CA7-9DB1-488D-8DB6-3B999B99DB16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Tautologie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31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639" name="AutoShape 83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4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85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6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87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8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89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0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91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92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93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94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95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6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WordArt 98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4" name="WordArt 99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5" name="WordArt 100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6" name="WordArt 101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57" name="AutoShape 97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2"/>
          <p:cNvSpPr/>
          <p:nvPr/>
        </p:nvSpPr>
        <p:spPr>
          <a:xfrm>
            <a:off x="5076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(tertium non datu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36D2-A581-4320-AAC8-42284AD88FB7}" type="slidenum">
              <a:t>31</a:t>
            </a:fld>
          </a:p>
        </p:txBody>
      </p:sp>
    </p:spTree>
  </p:cSld>
  <p:transition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Kontradiktion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62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670" name="AutoShape 77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8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79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0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81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2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3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4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8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86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87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88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89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0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WordArt 91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5" name="WordArt 92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6" name="WordArt 93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7" name="WordArt 94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688" name="AutoShape 9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00"/>
          <p:cNvSpPr/>
          <p:nvPr/>
        </p:nvSpPr>
        <p:spPr>
          <a:xfrm>
            <a:off x="4140360" y="299736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01"/>
          <p:cNvSpPr/>
          <p:nvPr/>
        </p:nvSpPr>
        <p:spPr>
          <a:xfrm>
            <a:off x="3995640" y="3573360"/>
            <a:ext cx="43200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02"/>
          <p:cNvSpPr/>
          <p:nvPr/>
        </p:nvSpPr>
        <p:spPr>
          <a:xfrm>
            <a:off x="4067280" y="414972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03"/>
          <p:cNvSpPr/>
          <p:nvPr/>
        </p:nvSpPr>
        <p:spPr>
          <a:xfrm>
            <a:off x="4140360" y="4797360"/>
            <a:ext cx="43164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B7A4-20DB-4169-8482-73EC1D9C0735}" type="slidenum">
              <a:t>32</a:t>
            </a:fld>
          </a:p>
        </p:txBody>
      </p:sp>
    </p:spTree>
  </p:cSld>
  <p:transition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952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inige logische Äquivalen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1640" y="1628280"/>
            <a:ext cx="432108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684360" y="1628640"/>
            <a:ext cx="3809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msam10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548720" y="1557360"/>
            <a:ext cx="351360" cy="504720"/>
            <a:chOff x="1548720" y="1557360"/>
            <a:chExt cx="351360" cy="504720"/>
          </a:xfrm>
        </p:grpSpPr>
        <p:sp>
          <p:nvSpPr>
            <p:cNvPr id="697" name=""/>
            <p:cNvSpPr/>
            <p:nvPr/>
          </p:nvSpPr>
          <p:spPr>
            <a:xfrm>
              <a:off x="1548720" y="1617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48720" y="155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548720" y="1916280"/>
            <a:ext cx="351360" cy="504360"/>
            <a:chOff x="1548720" y="1916280"/>
            <a:chExt cx="351360" cy="504360"/>
          </a:xfrm>
        </p:grpSpPr>
        <p:sp>
          <p:nvSpPr>
            <p:cNvPr id="700" name=""/>
            <p:cNvSpPr/>
            <p:nvPr/>
          </p:nvSpPr>
          <p:spPr>
            <a:xfrm>
              <a:off x="1548720" y="19764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48720" y="1916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2269440" y="2637000"/>
            <a:ext cx="351360" cy="504360"/>
            <a:chOff x="2269440" y="2637000"/>
            <a:chExt cx="351360" cy="504360"/>
          </a:xfrm>
        </p:grpSpPr>
        <p:sp>
          <p:nvSpPr>
            <p:cNvPr id="703" name=""/>
            <p:cNvSpPr/>
            <p:nvPr/>
          </p:nvSpPr>
          <p:spPr>
            <a:xfrm>
              <a:off x="2269440" y="269712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69440" y="2637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269440" y="2924280"/>
            <a:ext cx="351360" cy="504720"/>
            <a:chOff x="2269440" y="2924280"/>
            <a:chExt cx="351360" cy="504720"/>
          </a:xfrm>
        </p:grpSpPr>
        <p:sp>
          <p:nvSpPr>
            <p:cNvPr id="706" name=""/>
            <p:cNvSpPr/>
            <p:nvPr/>
          </p:nvSpPr>
          <p:spPr>
            <a:xfrm>
              <a:off x="2269440" y="29847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69440" y="2924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620360" y="3645000"/>
            <a:ext cx="351360" cy="504720"/>
            <a:chOff x="1620360" y="3645000"/>
            <a:chExt cx="351360" cy="504720"/>
          </a:xfrm>
        </p:grpSpPr>
        <p:sp>
          <p:nvSpPr>
            <p:cNvPr id="709" name=""/>
            <p:cNvSpPr/>
            <p:nvPr/>
          </p:nvSpPr>
          <p:spPr>
            <a:xfrm>
              <a:off x="1620360" y="3705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20360" y="3645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620360" y="4005360"/>
            <a:ext cx="351360" cy="504720"/>
            <a:chOff x="1620360" y="4005360"/>
            <a:chExt cx="351360" cy="504720"/>
          </a:xfrm>
        </p:grpSpPr>
        <p:sp>
          <p:nvSpPr>
            <p:cNvPr id="712" name=""/>
            <p:cNvSpPr/>
            <p:nvPr/>
          </p:nvSpPr>
          <p:spPr>
            <a:xfrm>
              <a:off x="1620360" y="4065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20360" y="4005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341080" y="4653000"/>
            <a:ext cx="351360" cy="504720"/>
            <a:chOff x="2341080" y="4653000"/>
            <a:chExt cx="351360" cy="504720"/>
          </a:xfrm>
        </p:grpSpPr>
        <p:sp>
          <p:nvSpPr>
            <p:cNvPr id="715" name=""/>
            <p:cNvSpPr/>
            <p:nvPr/>
          </p:nvSpPr>
          <p:spPr>
            <a:xfrm>
              <a:off x="2341080" y="4713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41080" y="4653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341080" y="5013360"/>
            <a:ext cx="351360" cy="504720"/>
            <a:chOff x="2341080" y="5013360"/>
            <a:chExt cx="351360" cy="504720"/>
          </a:xfrm>
        </p:grpSpPr>
        <p:sp>
          <p:nvSpPr>
            <p:cNvPr id="718" name=""/>
            <p:cNvSpPr/>
            <p:nvPr/>
          </p:nvSpPr>
          <p:spPr>
            <a:xfrm>
              <a:off x="2341080" y="5073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41080" y="5013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5509800" y="1557360"/>
            <a:ext cx="351360" cy="504720"/>
            <a:chOff x="5509800" y="1557360"/>
            <a:chExt cx="351360" cy="504720"/>
          </a:xfrm>
        </p:grpSpPr>
        <p:sp>
          <p:nvSpPr>
            <p:cNvPr id="721" name=""/>
            <p:cNvSpPr/>
            <p:nvPr/>
          </p:nvSpPr>
          <p:spPr>
            <a:xfrm>
              <a:off x="5509800" y="1617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09800" y="155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509800" y="1916280"/>
            <a:ext cx="351360" cy="504360"/>
            <a:chOff x="5509800" y="1916280"/>
            <a:chExt cx="351360" cy="504360"/>
          </a:xfrm>
        </p:grpSpPr>
        <p:sp>
          <p:nvSpPr>
            <p:cNvPr id="724" name=""/>
            <p:cNvSpPr/>
            <p:nvPr/>
          </p:nvSpPr>
          <p:spPr>
            <a:xfrm>
              <a:off x="5509800" y="19764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509800" y="19162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5797080" y="2637000"/>
            <a:ext cx="351360" cy="504360"/>
            <a:chOff x="5797080" y="2637000"/>
            <a:chExt cx="351360" cy="504360"/>
          </a:xfrm>
        </p:grpSpPr>
        <p:sp>
          <p:nvSpPr>
            <p:cNvPr id="727" name=""/>
            <p:cNvSpPr/>
            <p:nvPr/>
          </p:nvSpPr>
          <p:spPr>
            <a:xfrm>
              <a:off x="5797080" y="269712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97080" y="2637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293800" y="3789360"/>
            <a:ext cx="351360" cy="504720"/>
            <a:chOff x="5293800" y="3789360"/>
            <a:chExt cx="351360" cy="504720"/>
          </a:xfrm>
        </p:grpSpPr>
        <p:sp>
          <p:nvSpPr>
            <p:cNvPr id="730" name=""/>
            <p:cNvSpPr/>
            <p:nvPr/>
          </p:nvSpPr>
          <p:spPr>
            <a:xfrm>
              <a:off x="5293800" y="3849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93800" y="3789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797080" y="2997360"/>
            <a:ext cx="351360" cy="504360"/>
            <a:chOff x="5797080" y="2997360"/>
            <a:chExt cx="351360" cy="504360"/>
          </a:xfrm>
        </p:grpSpPr>
        <p:sp>
          <p:nvSpPr>
            <p:cNvPr id="733" name=""/>
            <p:cNvSpPr/>
            <p:nvPr/>
          </p:nvSpPr>
          <p:spPr>
            <a:xfrm>
              <a:off x="5797080" y="3057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97080" y="2997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157440" y="4869000"/>
            <a:ext cx="351360" cy="504720"/>
            <a:chOff x="6157440" y="4869000"/>
            <a:chExt cx="351360" cy="504720"/>
          </a:xfrm>
        </p:grpSpPr>
        <p:sp>
          <p:nvSpPr>
            <p:cNvPr id="736" name=""/>
            <p:cNvSpPr/>
            <p:nvPr/>
          </p:nvSpPr>
          <p:spPr>
            <a:xfrm>
              <a:off x="6157440" y="492948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57440" y="486900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157440" y="4508640"/>
            <a:ext cx="351360" cy="504360"/>
            <a:chOff x="6157440" y="4508640"/>
            <a:chExt cx="351360" cy="504360"/>
          </a:xfrm>
        </p:grpSpPr>
        <p:sp>
          <p:nvSpPr>
            <p:cNvPr id="739" name=""/>
            <p:cNvSpPr/>
            <p:nvPr/>
          </p:nvSpPr>
          <p:spPr>
            <a:xfrm>
              <a:off x="6157440" y="45687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157440" y="45086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EC9C-3C3B-4D41-A3C3-22D92CC75E0E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49120" y="533520"/>
            <a:ext cx="791820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Normalformen &amp; vollständige Junktor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iesen Äquivalenenzen fol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logisch äquivalente Formel, die nur die Junktor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Formel in konjunktiver Normalform, d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fache Negation direkt vor atomaren Propositionen (sog.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el ist Konjunktion von Disjunktionen von Liter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7D4E-5307-42C8-8088-CF6E72AD6503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logik ist 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ützliche Eigenschaft dab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lt genau dann, wenn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Tautologie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, ob Satz Tautologie ist, über Wahrheitswert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Prinzip: Überprüfung aller Interpretationen (nur die Wahrheitswerte der vorkommenden atomaren Propositionen fallen ins Gew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C5C6-4001-4B06-B801-3CDA37795993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5" name=""/>
          <p:cNvGraphicFramePr/>
          <p:nvPr/>
        </p:nvGraphicFramePr>
        <p:xfrm>
          <a:off x="1668600" y="4100400"/>
          <a:ext cx="6408720" cy="2168640"/>
        </p:xfrm>
        <a:graphic>
          <a:graphicData uri="http://schemas.openxmlformats.org/drawingml/2006/table">
            <a:tbl>
              <a:tblPr/>
              <a:tblGrid>
                <a:gridCol w="1008000"/>
                <a:gridCol w="1295280"/>
                <a:gridCol w="1728720"/>
                <a:gridCol w="237672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Oval 452"/>
          <p:cNvSpPr/>
          <p:nvPr/>
        </p:nvSpPr>
        <p:spPr>
          <a:xfrm>
            <a:off x="-1538280" y="3206880"/>
            <a:ext cx="3672000" cy="40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450"/>
          <p:cNvSpPr/>
          <p:nvPr/>
        </p:nvSpPr>
        <p:spPr>
          <a:xfrm>
            <a:off x="2892600" y="301932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1"/>
          <p:cNvGrpSpPr/>
          <p:nvPr/>
        </p:nvGrpSpPr>
        <p:grpSpPr>
          <a:xfrm>
            <a:off x="1163520" y="1652760"/>
            <a:ext cx="1368000" cy="1294920"/>
            <a:chOff x="1163520" y="1652760"/>
            <a:chExt cx="1368000" cy="1294920"/>
          </a:xfrm>
        </p:grpSpPr>
        <p:sp>
          <p:nvSpPr>
            <p:cNvPr id="749" name="WordArt 9"/>
            <p:cNvSpPr txBox="1"/>
            <p:nvPr/>
          </p:nvSpPr>
          <p:spPr>
            <a:xfrm>
              <a:off x="1163520" y="1652760"/>
              <a:ext cx="1190160" cy="113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4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50" name="Rectangle 10"/>
            <p:cNvSpPr/>
            <p:nvPr/>
          </p:nvSpPr>
          <p:spPr>
            <a:xfrm>
              <a:off x="1184760" y="1652760"/>
              <a:ext cx="1346760" cy="129492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Text Box 5"/>
          <p:cNvSpPr/>
          <p:nvPr/>
        </p:nvSpPr>
        <p:spPr>
          <a:xfrm>
            <a:off x="2316240" y="1752480"/>
            <a:ext cx="287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Modus Pone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,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6"/>
          <p:cNvSpPr/>
          <p:nvPr/>
        </p:nvSpPr>
        <p:spPr>
          <a:xfrm>
            <a:off x="4836960" y="2203560"/>
            <a:ext cx="57492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7"/>
          <p:cNvSpPr/>
          <p:nvPr/>
        </p:nvSpPr>
        <p:spPr>
          <a:xfrm>
            <a:off x="2603520" y="2203560"/>
            <a:ext cx="5763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8"/>
          <p:cNvSpPr/>
          <p:nvPr/>
        </p:nvSpPr>
        <p:spPr>
          <a:xfrm>
            <a:off x="3252960" y="2203560"/>
            <a:ext cx="103500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2"/>
          <p:cNvSpPr/>
          <p:nvPr/>
        </p:nvSpPr>
        <p:spPr>
          <a:xfrm>
            <a:off x="2720520" y="30193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13"/>
          <p:cNvSpPr/>
          <p:nvPr/>
        </p:nvSpPr>
        <p:spPr>
          <a:xfrm>
            <a:off x="5772240" y="4172040"/>
            <a:ext cx="223200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66"/>
          <p:cNvSpPr/>
          <p:nvPr/>
        </p:nvSpPr>
        <p:spPr>
          <a:xfrm>
            <a:off x="4044960" y="4172040"/>
            <a:ext cx="1584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68"/>
          <p:cNvSpPr/>
          <p:nvPr/>
        </p:nvSpPr>
        <p:spPr>
          <a:xfrm>
            <a:off x="2747880" y="4172040"/>
            <a:ext cx="115272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1317600" y="529128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1314360" y="489276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1309680" y="449892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2" name=""/>
          <p:cNvGraphicFramePr/>
          <p:nvPr/>
        </p:nvGraphicFramePr>
        <p:xfrm>
          <a:off x="1314360" y="410040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63" name="AutoShape 387"/>
          <p:cNvSpPr/>
          <p:nvPr/>
        </p:nvSpPr>
        <p:spPr>
          <a:xfrm>
            <a:off x="2892600" y="301932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390"/>
          <p:cNvGrpSpPr/>
          <p:nvPr/>
        </p:nvGrpSpPr>
        <p:grpSpPr>
          <a:xfrm>
            <a:off x="6563880" y="4623120"/>
            <a:ext cx="504360" cy="593280"/>
            <a:chOff x="6563880" y="4623120"/>
            <a:chExt cx="504360" cy="593280"/>
          </a:xfrm>
        </p:grpSpPr>
        <p:sp>
          <p:nvSpPr>
            <p:cNvPr id="765" name="AutoShape 388"/>
            <p:cNvSpPr/>
            <p:nvPr/>
          </p:nvSpPr>
          <p:spPr>
            <a:xfrm rot="19359600">
              <a:off x="6635520" y="46954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389"/>
            <p:cNvSpPr/>
            <p:nvPr/>
          </p:nvSpPr>
          <p:spPr>
            <a:xfrm>
              <a:off x="6605280" y="4695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396"/>
          <p:cNvGrpSpPr/>
          <p:nvPr/>
        </p:nvGrpSpPr>
        <p:grpSpPr>
          <a:xfrm>
            <a:off x="2963160" y="5415120"/>
            <a:ext cx="504000" cy="593280"/>
            <a:chOff x="2963160" y="5415120"/>
            <a:chExt cx="504000" cy="593280"/>
          </a:xfrm>
        </p:grpSpPr>
        <p:grpSp>
          <p:nvGrpSpPr>
            <p:cNvPr id="768" name="Group 391"/>
            <p:cNvGrpSpPr/>
            <p:nvPr/>
          </p:nvGrpSpPr>
          <p:grpSpPr>
            <a:xfrm>
              <a:off x="2963160" y="5415120"/>
              <a:ext cx="504000" cy="593280"/>
              <a:chOff x="2963160" y="5415120"/>
              <a:chExt cx="504000" cy="593280"/>
            </a:xfrm>
          </p:grpSpPr>
          <p:sp>
            <p:nvSpPr>
              <p:cNvPr id="769" name="AutoShape 392"/>
              <p:cNvSpPr/>
              <p:nvPr/>
            </p:nvSpPr>
            <p:spPr>
              <a:xfrm rot="19359600">
                <a:off x="3034800" y="5487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393"/>
              <p:cNvSpPr/>
              <p:nvPr/>
            </p:nvSpPr>
            <p:spPr>
              <a:xfrm>
                <a:off x="3004560" y="5487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AutoShape 395"/>
            <p:cNvSpPr/>
            <p:nvPr/>
          </p:nvSpPr>
          <p:spPr>
            <a:xfrm>
              <a:off x="3036960" y="5487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397"/>
          <p:cNvGrpSpPr/>
          <p:nvPr/>
        </p:nvGrpSpPr>
        <p:grpSpPr>
          <a:xfrm>
            <a:off x="6563880" y="5415120"/>
            <a:ext cx="504360" cy="593280"/>
            <a:chOff x="6563880" y="5415120"/>
            <a:chExt cx="504360" cy="593280"/>
          </a:xfrm>
        </p:grpSpPr>
        <p:sp>
          <p:nvSpPr>
            <p:cNvPr id="773" name="AutoShape 398"/>
            <p:cNvSpPr/>
            <p:nvPr/>
          </p:nvSpPr>
          <p:spPr>
            <a:xfrm rot="19359600">
              <a:off x="6635520" y="54874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399"/>
            <p:cNvSpPr/>
            <p:nvPr/>
          </p:nvSpPr>
          <p:spPr>
            <a:xfrm>
              <a:off x="6605280" y="5487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400"/>
          <p:cNvGrpSpPr/>
          <p:nvPr/>
        </p:nvGrpSpPr>
        <p:grpSpPr>
          <a:xfrm>
            <a:off x="6563880" y="5016960"/>
            <a:ext cx="504360" cy="593280"/>
            <a:chOff x="6563880" y="5016960"/>
            <a:chExt cx="504360" cy="593280"/>
          </a:xfrm>
        </p:grpSpPr>
        <p:sp>
          <p:nvSpPr>
            <p:cNvPr id="776" name="AutoShape 401"/>
            <p:cNvSpPr/>
            <p:nvPr/>
          </p:nvSpPr>
          <p:spPr>
            <a:xfrm rot="19359600">
              <a:off x="6635520" y="508932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402"/>
            <p:cNvSpPr/>
            <p:nvPr/>
          </p:nvSpPr>
          <p:spPr>
            <a:xfrm>
              <a:off x="6605280" y="5089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403"/>
          <p:cNvGrpSpPr/>
          <p:nvPr/>
        </p:nvGrpSpPr>
        <p:grpSpPr>
          <a:xfrm>
            <a:off x="4566600" y="5808960"/>
            <a:ext cx="504000" cy="593280"/>
            <a:chOff x="4566600" y="5808960"/>
            <a:chExt cx="504000" cy="593280"/>
          </a:xfrm>
        </p:grpSpPr>
        <p:sp>
          <p:nvSpPr>
            <p:cNvPr id="779" name="AutoShape 404"/>
            <p:cNvSpPr/>
            <p:nvPr/>
          </p:nvSpPr>
          <p:spPr>
            <a:xfrm rot="19359600">
              <a:off x="4638240" y="5881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Text Box 405"/>
            <p:cNvSpPr/>
            <p:nvPr/>
          </p:nvSpPr>
          <p:spPr>
            <a:xfrm>
              <a:off x="460800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406"/>
          <p:cNvGrpSpPr/>
          <p:nvPr/>
        </p:nvGrpSpPr>
        <p:grpSpPr>
          <a:xfrm>
            <a:off x="6582960" y="5808960"/>
            <a:ext cx="504360" cy="593280"/>
            <a:chOff x="6582960" y="5808960"/>
            <a:chExt cx="504360" cy="593280"/>
          </a:xfrm>
        </p:grpSpPr>
        <p:sp>
          <p:nvSpPr>
            <p:cNvPr id="782" name="AutoShape 407"/>
            <p:cNvSpPr/>
            <p:nvPr/>
          </p:nvSpPr>
          <p:spPr>
            <a:xfrm rot="19359600">
              <a:off x="6654600" y="588132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408"/>
            <p:cNvSpPr/>
            <p:nvPr/>
          </p:nvSpPr>
          <p:spPr>
            <a:xfrm>
              <a:off x="662436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409"/>
          <p:cNvGrpSpPr/>
          <p:nvPr/>
        </p:nvGrpSpPr>
        <p:grpSpPr>
          <a:xfrm>
            <a:off x="2982240" y="5808960"/>
            <a:ext cx="504000" cy="593280"/>
            <a:chOff x="2982240" y="5808960"/>
            <a:chExt cx="504000" cy="593280"/>
          </a:xfrm>
        </p:grpSpPr>
        <p:sp>
          <p:nvSpPr>
            <p:cNvPr id="785" name="AutoShape 410"/>
            <p:cNvSpPr/>
            <p:nvPr/>
          </p:nvSpPr>
          <p:spPr>
            <a:xfrm rot="19359600">
              <a:off x="3053880" y="5881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411"/>
            <p:cNvSpPr/>
            <p:nvPr/>
          </p:nvSpPr>
          <p:spPr>
            <a:xfrm>
              <a:off x="3023640" y="5881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412"/>
          <p:cNvGrpSpPr/>
          <p:nvPr/>
        </p:nvGrpSpPr>
        <p:grpSpPr>
          <a:xfrm>
            <a:off x="2963160" y="5016960"/>
            <a:ext cx="504000" cy="593280"/>
            <a:chOff x="2963160" y="5016960"/>
            <a:chExt cx="504000" cy="593280"/>
          </a:xfrm>
        </p:grpSpPr>
        <p:sp>
          <p:nvSpPr>
            <p:cNvPr id="788" name="AutoShape 413"/>
            <p:cNvSpPr/>
            <p:nvPr/>
          </p:nvSpPr>
          <p:spPr>
            <a:xfrm rot="19359600">
              <a:off x="3034800" y="508932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Text Box 414"/>
            <p:cNvSpPr/>
            <p:nvPr/>
          </p:nvSpPr>
          <p:spPr>
            <a:xfrm>
              <a:off x="3004560" y="508968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415"/>
          <p:cNvGrpSpPr/>
          <p:nvPr/>
        </p:nvGrpSpPr>
        <p:grpSpPr>
          <a:xfrm>
            <a:off x="2963160" y="4623120"/>
            <a:ext cx="504000" cy="593280"/>
            <a:chOff x="2963160" y="4623120"/>
            <a:chExt cx="504000" cy="593280"/>
          </a:xfrm>
        </p:grpSpPr>
        <p:sp>
          <p:nvSpPr>
            <p:cNvPr id="791" name="AutoShape 416"/>
            <p:cNvSpPr/>
            <p:nvPr/>
          </p:nvSpPr>
          <p:spPr>
            <a:xfrm rot="19359600">
              <a:off x="3034800" y="46954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Text Box 417"/>
            <p:cNvSpPr/>
            <p:nvPr/>
          </p:nvSpPr>
          <p:spPr>
            <a:xfrm>
              <a:off x="3004560" y="46958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423"/>
          <p:cNvGrpSpPr/>
          <p:nvPr/>
        </p:nvGrpSpPr>
        <p:grpSpPr>
          <a:xfrm>
            <a:off x="4547520" y="5016960"/>
            <a:ext cx="504000" cy="593280"/>
            <a:chOff x="4547520" y="5016960"/>
            <a:chExt cx="504000" cy="593280"/>
          </a:xfrm>
        </p:grpSpPr>
        <p:grpSp>
          <p:nvGrpSpPr>
            <p:cNvPr id="794" name="Group 424"/>
            <p:cNvGrpSpPr/>
            <p:nvPr/>
          </p:nvGrpSpPr>
          <p:grpSpPr>
            <a:xfrm>
              <a:off x="4547520" y="5016960"/>
              <a:ext cx="504000" cy="593280"/>
              <a:chOff x="4547520" y="5016960"/>
              <a:chExt cx="504000" cy="593280"/>
            </a:xfrm>
          </p:grpSpPr>
          <p:sp>
            <p:nvSpPr>
              <p:cNvPr id="795" name="AutoShape 425"/>
              <p:cNvSpPr/>
              <p:nvPr/>
            </p:nvSpPr>
            <p:spPr>
              <a:xfrm rot="19359600">
                <a:off x="4619160" y="508932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Text Box 426"/>
              <p:cNvSpPr/>
              <p:nvPr/>
            </p:nvSpPr>
            <p:spPr>
              <a:xfrm>
                <a:off x="4588920" y="508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AutoShape 427"/>
            <p:cNvSpPr/>
            <p:nvPr/>
          </p:nvSpPr>
          <p:spPr>
            <a:xfrm>
              <a:off x="4621320" y="508968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428"/>
          <p:cNvGrpSpPr/>
          <p:nvPr/>
        </p:nvGrpSpPr>
        <p:grpSpPr>
          <a:xfrm>
            <a:off x="4547520" y="4623120"/>
            <a:ext cx="504000" cy="593280"/>
            <a:chOff x="4547520" y="4623120"/>
            <a:chExt cx="504000" cy="593280"/>
          </a:xfrm>
        </p:grpSpPr>
        <p:grpSp>
          <p:nvGrpSpPr>
            <p:cNvPr id="799" name="Group 429"/>
            <p:cNvGrpSpPr/>
            <p:nvPr/>
          </p:nvGrpSpPr>
          <p:grpSpPr>
            <a:xfrm>
              <a:off x="4547520" y="4623120"/>
              <a:ext cx="504000" cy="593280"/>
              <a:chOff x="4547520" y="4623120"/>
              <a:chExt cx="504000" cy="593280"/>
            </a:xfrm>
          </p:grpSpPr>
          <p:sp>
            <p:nvSpPr>
              <p:cNvPr id="800" name="AutoShape 430"/>
              <p:cNvSpPr/>
              <p:nvPr/>
            </p:nvSpPr>
            <p:spPr>
              <a:xfrm rot="19359600">
                <a:off x="4619160" y="4695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431"/>
              <p:cNvSpPr/>
              <p:nvPr/>
            </p:nvSpPr>
            <p:spPr>
              <a:xfrm>
                <a:off x="4588920" y="4695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AutoShape 432"/>
            <p:cNvSpPr/>
            <p:nvPr/>
          </p:nvSpPr>
          <p:spPr>
            <a:xfrm>
              <a:off x="4621320" y="4695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443"/>
          <p:cNvGrpSpPr/>
          <p:nvPr/>
        </p:nvGrpSpPr>
        <p:grpSpPr>
          <a:xfrm>
            <a:off x="4547520" y="5415120"/>
            <a:ext cx="504000" cy="593280"/>
            <a:chOff x="4547520" y="5415120"/>
            <a:chExt cx="504000" cy="593280"/>
          </a:xfrm>
        </p:grpSpPr>
        <p:grpSp>
          <p:nvGrpSpPr>
            <p:cNvPr id="804" name="Group 444"/>
            <p:cNvGrpSpPr/>
            <p:nvPr/>
          </p:nvGrpSpPr>
          <p:grpSpPr>
            <a:xfrm>
              <a:off x="4547520" y="5415120"/>
              <a:ext cx="504000" cy="593280"/>
              <a:chOff x="4547520" y="5415120"/>
              <a:chExt cx="504000" cy="593280"/>
            </a:xfrm>
          </p:grpSpPr>
          <p:sp>
            <p:nvSpPr>
              <p:cNvPr id="805" name="AutoShape 445"/>
              <p:cNvSpPr/>
              <p:nvPr/>
            </p:nvSpPr>
            <p:spPr>
              <a:xfrm rot="19359600">
                <a:off x="4619160" y="54874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Text Box 446"/>
              <p:cNvSpPr/>
              <p:nvPr/>
            </p:nvSpPr>
            <p:spPr>
              <a:xfrm>
                <a:off x="4588920" y="5487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AutoShape 447"/>
            <p:cNvSpPr/>
            <p:nvPr/>
          </p:nvSpPr>
          <p:spPr>
            <a:xfrm>
              <a:off x="4621320" y="54878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Oval 448"/>
          <p:cNvSpPr/>
          <p:nvPr/>
        </p:nvSpPr>
        <p:spPr>
          <a:xfrm>
            <a:off x="6276960" y="4532400"/>
            <a:ext cx="1079640" cy="194472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449" descr="ICN_073C"/>
          <p:cNvPicPr/>
          <p:nvPr/>
        </p:nvPicPr>
        <p:blipFill>
          <a:blip r:embed="rId1"/>
          <a:stretch/>
        </p:blipFill>
        <p:spPr>
          <a:xfrm>
            <a:off x="6348240" y="17240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2D67-6A1D-4AED-AEF7-CFDA9DF73DA1}" type="slidenum">
              <a:t>36</a:t>
            </a:fld>
          </a:p>
        </p:txBody>
      </p:sp>
    </p:spTree>
  </p:cSld>
  <p:transition>
    <p:fade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403 -0.01481 0.16823 -0.0294 0.22083 -0.00139 C 0.27344 0.02662 0.29479 0.09769 0.31615 0.16875 E">
                                      <p:cBhvr>
                                        <p:cTn id="623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536840" y="241200"/>
            <a:ext cx="10261440" cy="63360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ächstes M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5165640" y="2327400"/>
            <a:ext cx="3251160" cy="2728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5164200" y="2338560"/>
            <a:ext cx="32526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3040" tIns="26640" bIns="26640"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5165640" y="2584440"/>
            <a:ext cx="3257640" cy="401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5e574e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6" descr=""/>
          <p:cNvPicPr/>
          <p:nvPr/>
        </p:nvPicPr>
        <p:blipFill>
          <a:blip r:embed="rId1"/>
          <a:stretch/>
        </p:blipFill>
        <p:spPr>
          <a:xfrm>
            <a:off x="5295960" y="2746440"/>
            <a:ext cx="3009960" cy="311616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7"/>
          <p:cNvSpPr/>
          <p:nvPr/>
        </p:nvSpPr>
        <p:spPr>
          <a:xfrm>
            <a:off x="5375160" y="4064040"/>
            <a:ext cx="2287800" cy="20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8"/>
          <p:cNvSpPr/>
          <p:nvPr/>
        </p:nvSpPr>
        <p:spPr>
          <a:xfrm>
            <a:off x="5981760" y="5845320"/>
            <a:ext cx="124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9"/>
          <p:cNvSpPr/>
          <p:nvPr/>
        </p:nvSpPr>
        <p:spPr>
          <a:xfrm>
            <a:off x="5375160" y="3165480"/>
            <a:ext cx="2894040" cy="88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0"/>
          <p:cNvSpPr/>
          <p:nvPr/>
        </p:nvSpPr>
        <p:spPr>
          <a:xfrm>
            <a:off x="5730840" y="3197160"/>
            <a:ext cx="11779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54360" tIns="26640" bIns="2664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13" descr=""/>
          <p:cNvPicPr/>
          <p:nvPr/>
        </p:nvPicPr>
        <p:blipFill>
          <a:blip r:embed="rId2"/>
          <a:srcRect l="33303" t="43631" r="21726" b="32720"/>
          <a:stretch/>
        </p:blipFill>
        <p:spPr>
          <a:xfrm>
            <a:off x="6299280" y="4089240"/>
            <a:ext cx="135396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1" name=""/>
          <p:cNvGraphicFramePr/>
          <p:nvPr/>
        </p:nvGraphicFramePr>
        <p:xfrm>
          <a:off x="468360" y="2060640"/>
          <a:ext cx="4268520" cy="4524480"/>
        </p:xfrm>
        <a:graphic>
          <a:graphicData uri="http://schemas.openxmlformats.org/drawingml/2006/table">
            <a:tbl>
              <a:tblPr/>
              <a:tblGrid>
                <a:gridCol w="4268520"/>
              </a:tblGrid>
              <a:tr h="32400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Regelsprach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- Syntax und Semanti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35640" rIns="35640" tIns="35640" bIns="35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22" name="Rectangle 64"/>
          <p:cNvSpPr/>
          <p:nvPr/>
        </p:nvSpPr>
        <p:spPr>
          <a:xfrm>
            <a:off x="468360" y="3573360"/>
            <a:ext cx="4294080" cy="30348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3FD0-2061-4579-86F9-B8DC3BDA8D23}" type="slidenum">
              <a:t>37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s is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6761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ymologische Herkunft: griechisch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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 „Wort, Rede, Lehre“ (s.a. Faust 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8436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 als Argumenta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84360" y="537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für diese Vorlesung:</a:t>
            </a: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3"/>
          <p:cNvGrpSpPr/>
          <p:nvPr/>
        </p:nvGrpSpPr>
        <p:grpSpPr>
          <a:xfrm>
            <a:off x="755640" y="3213000"/>
            <a:ext cx="3887640" cy="1079640"/>
            <a:chOff x="755640" y="3213000"/>
            <a:chExt cx="3887640" cy="1079640"/>
          </a:xfrm>
        </p:grpSpPr>
        <p:pic>
          <p:nvPicPr>
            <p:cNvPr id="115" name="Picture 5" descr="Parallels Picture 1"/>
            <p:cNvPicPr/>
            <p:nvPr/>
          </p:nvPicPr>
          <p:blipFill>
            <a:blip r:embed="rId1"/>
            <a:srcRect l="22190" t="20604" r="69545" b="61759"/>
            <a:stretch/>
          </p:blipFill>
          <p:spPr>
            <a:xfrm>
              <a:off x="755640" y="3357720"/>
              <a:ext cx="59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8"/>
            <p:cNvSpPr/>
            <p:nvPr/>
          </p:nvSpPr>
          <p:spPr>
            <a:xfrm>
              <a:off x="1042920" y="3213000"/>
              <a:ext cx="360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Menschen sind sterblich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okrates ist ein Mensch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so ist Sokrates sterblich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1979640" y="4221000"/>
            <a:ext cx="5616720" cy="936720"/>
            <a:chOff x="1979640" y="4221000"/>
            <a:chExt cx="5616720" cy="936720"/>
          </a:xfrm>
        </p:grpSpPr>
        <p:sp>
          <p:nvSpPr>
            <p:cNvPr id="118" name="Rectangle 9"/>
            <p:cNvSpPr/>
            <p:nvPr/>
          </p:nvSpPr>
          <p:spPr>
            <a:xfrm>
              <a:off x="2843280" y="4221000"/>
              <a:ext cx="4753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Pinguine sind schwarz-weiß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nige alte TV-Shows sind schwarz-weiß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ige Pinguine sind alte TV-Show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0" descr="penguins"/>
            <p:cNvPicPr/>
            <p:nvPr/>
          </p:nvPicPr>
          <p:blipFill>
            <a:blip r:embed="rId2"/>
            <a:srcRect l="34112" t="48552" r="36150" b="34137"/>
            <a:stretch/>
          </p:blipFill>
          <p:spPr>
            <a:xfrm>
              <a:off x="1979640" y="4365720"/>
              <a:ext cx="12240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Text Box 11"/>
          <p:cNvSpPr/>
          <p:nvPr/>
        </p:nvSpPr>
        <p:spPr>
          <a:xfrm>
            <a:off x="4599000" y="393372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Arial"/>
              </a:rPr>
              <a:t>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074480" y="299736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6600"/>
                </a:solidFill>
                <a:latin typeface="Arial"/>
              </a:rPr>
              <a:t>✔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5508720" y="3357720"/>
            <a:ext cx="27144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arum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E632-3F64-49B6-9BAD-0662C45AD972}" type="slidenum">
              <a:t>4</a:t>
            </a:fld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rum formal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ierbarkeit! Ei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Rechenmaschine“ für Logik!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. W. Leibniz (1646-171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ED06184"/>
          <p:cNvPicPr/>
          <p:nvPr/>
        </p:nvPicPr>
        <p:blipFill>
          <a:blip r:embed="rId1"/>
          <a:srcRect l="0" t="0" r="8824" b="770"/>
          <a:stretch/>
        </p:blipFill>
        <p:spPr>
          <a:xfrm>
            <a:off x="6156360" y="3284640"/>
            <a:ext cx="2987640" cy="32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arallels Picture"/>
          <p:cNvPicPr/>
          <p:nvPr/>
        </p:nvPicPr>
        <p:blipFill>
          <a:blip r:embed="rId2"/>
          <a:srcRect l="50003" t="22365" r="2746" b="48949"/>
          <a:stretch/>
        </p:blipFill>
        <p:spPr>
          <a:xfrm>
            <a:off x="5508720" y="907920"/>
            <a:ext cx="2160360" cy="19432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1"/>
          <p:cNvGrpSpPr/>
          <p:nvPr/>
        </p:nvGrpSpPr>
        <p:grpSpPr>
          <a:xfrm>
            <a:off x="1042920" y="2924280"/>
            <a:ext cx="6726240" cy="3443040"/>
            <a:chOff x="1042920" y="2924280"/>
            <a:chExt cx="6726240" cy="3443040"/>
          </a:xfrm>
        </p:grpSpPr>
        <p:sp>
          <p:nvSpPr>
            <p:cNvPr id="128" name="AutoShape 10"/>
            <p:cNvSpPr/>
            <p:nvPr/>
          </p:nvSpPr>
          <p:spPr>
            <a:xfrm>
              <a:off x="1042920" y="2924280"/>
              <a:ext cx="67215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2924280"/>
              <a:ext cx="6726240" cy="34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5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9E8A-5DED-4292-9327-1468FD43B447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Grundbegriffe der 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1547640" y="1989000"/>
            <a:ext cx="11512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3419640" y="170028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terpreta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5796000" y="2852640"/>
            <a:ext cx="1079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er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2340000" y="3213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roposi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2268360" y="4437000"/>
            <a:ext cx="179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dividu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6227640" y="458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mantik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WordArt 10"/>
          <p:cNvSpPr txBox="1"/>
          <p:nvPr/>
        </p:nvSpPr>
        <p:spPr>
          <a:xfrm>
            <a:off x="4643280" y="47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tax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WordArt 11"/>
          <p:cNvSpPr txBox="1"/>
          <p:nvPr/>
        </p:nvSpPr>
        <p:spPr>
          <a:xfrm>
            <a:off x="4788000" y="3789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to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6300720" y="3573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rm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13"/>
          <p:cNvSpPr txBox="1"/>
          <p:nvPr/>
        </p:nvSpPr>
        <p:spPr>
          <a:xfrm>
            <a:off x="4284720" y="306864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atz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WordArt 15"/>
          <p:cNvSpPr txBox="1"/>
          <p:nvPr/>
        </p:nvSpPr>
        <p:spPr>
          <a:xfrm>
            <a:off x="1116000" y="3645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omän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5364000" y="220500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rfüll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18"/>
          <p:cNvSpPr txBox="1"/>
          <p:nvPr/>
        </p:nvSpPr>
        <p:spPr>
          <a:xfrm>
            <a:off x="5580000" y="5445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autolog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19"/>
          <p:cNvSpPr txBox="1"/>
          <p:nvPr/>
        </p:nvSpPr>
        <p:spPr>
          <a:xfrm>
            <a:off x="1042920" y="522936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iskursunivers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21"/>
          <p:cNvSpPr txBox="1"/>
          <p:nvPr/>
        </p:nvSpPr>
        <p:spPr>
          <a:xfrm>
            <a:off x="3059280" y="249228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lgerung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23"/>
          <p:cNvSpPr txBox="1"/>
          <p:nvPr/>
        </p:nvSpPr>
        <p:spPr>
          <a:xfrm>
            <a:off x="324000" y="414972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ntscheid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24"/>
          <p:cNvSpPr txBox="1"/>
          <p:nvPr/>
        </p:nvSpPr>
        <p:spPr>
          <a:xfrm>
            <a:off x="395280" y="256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bleitungsreg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25"/>
          <p:cNvSpPr txBox="1"/>
          <p:nvPr/>
        </p:nvSpPr>
        <p:spPr>
          <a:xfrm>
            <a:off x="5003640" y="422100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eduktionskalkü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26"/>
          <p:cNvSpPr txBox="1"/>
          <p:nvPr/>
        </p:nvSpPr>
        <p:spPr>
          <a:xfrm>
            <a:off x="3492360" y="5877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Widerspruch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27"/>
          <p:cNvSpPr txBox="1"/>
          <p:nvPr/>
        </p:nvSpPr>
        <p:spPr>
          <a:xfrm>
            <a:off x="900000" y="5805360"/>
            <a:ext cx="23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theor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53AF-F0DD-4CA8-B478-4934A751D447}" type="slidenum">
              <a:t>6</a:t>
            </a:fld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5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64800" y="163800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enschen sind sterblic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krates ist ein Mensch.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ist Sokrates sterb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hließen wi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a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eibende Grundelemente der Logik nennen wir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ät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E473-14F7-43B2-919D-D795930205C1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ätze und Schlussfolgerung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64800" y="17143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Logik besteht aus einer Menge von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sammen mit einer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ntailment relation). Letztere liefert die Semantik (grch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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m Zeichen gehöre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116000" y="3429000"/>
            <a:ext cx="7201080" cy="302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3780000" y="5156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19640" y="393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427640" y="4365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572000" y="3789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1763640" y="515628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2124000" y="41482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6084720" y="41482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3"/>
          <p:cNvSpPr/>
          <p:nvPr/>
        </p:nvSpPr>
        <p:spPr>
          <a:xfrm>
            <a:off x="6084720" y="5084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3203640" y="5084640"/>
            <a:ext cx="57636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5"/>
          <p:cNvSpPr/>
          <p:nvPr/>
        </p:nvSpPr>
        <p:spPr>
          <a:xfrm>
            <a:off x="5580000" y="4005360"/>
            <a:ext cx="57636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317400" y="52038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638320" y="41655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7D54-9661-495D-9D4C-45FE04F319C2}" type="slidenum">
              <a:t>8</a:t>
            </a:fld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lgerung und Äquivalenz von Sät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177588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=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bei bedeute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Me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 Sätz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Satz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n Sätz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lgt der Sat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oder 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logische Konsequenz au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lt für zwei Sätz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ss sowohl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ls auch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ind diese Sätz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logisch) äquival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an schreibt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373440" y="5805360"/>
            <a:ext cx="351360" cy="504720"/>
            <a:chOff x="6373440" y="5805360"/>
            <a:chExt cx="351360" cy="504720"/>
          </a:xfrm>
        </p:grpSpPr>
        <p:sp>
          <p:nvSpPr>
            <p:cNvPr id="172" name=""/>
            <p:cNvSpPr/>
            <p:nvPr/>
          </p:nvSpPr>
          <p:spPr>
            <a:xfrm>
              <a:off x="6373440" y="586584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73440" y="5805360"/>
              <a:ext cx="3513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3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7518-6078-4D88-80C5-EBA13A88E303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57:17Z</dcterms:created>
  <dc:creator>York Sure</dc:creator>
  <dc:description/>
  <dc:language>en-US</dc:language>
  <cp:lastModifiedBy> Pascal Hitzler</cp:lastModifiedBy>
  <cp:lastPrinted>2008-06-06T08:13:02Z</cp:lastPrinted>
  <dcterms:modified xsi:type="dcterms:W3CDTF">2008-11-18T19:23:31Z</dcterms:modified>
  <cp:revision>291</cp:revision>
  <dc:subject/>
  <dc:title>Kein Folientitel</dc:title>
</cp:coreProperties>
</file>